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3"/>
          </p:nvPr>
        </p:nvSpPr>
        <p:spPr>
          <a:xfrm>
            <a:off x="3893760" y="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14"/>
          </p:nvPr>
        </p:nvSpPr>
        <p:spPr>
          <a:xfrm>
            <a:off x="-3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15"/>
          </p:nvPr>
        </p:nvSpPr>
        <p:spPr>
          <a:xfrm>
            <a:off x="389376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7223-3FA9-4FF2-B5DE-41D93025D0B6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20880" y="754200"/>
            <a:ext cx="5032080" cy="37749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7240" y="4779720"/>
            <a:ext cx="54993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3 Marcador de número de diapositiva"/>
          <p:cNvSpPr/>
          <p:nvPr/>
        </p:nvSpPr>
        <p:spPr>
          <a:xfrm>
            <a:off x="3894120" y="9558360"/>
            <a:ext cx="2978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9C71-ED4E-4529-A9CB-CCA8332BDD90}" type="slidenum">
              <a:rPr b="0" lang="es-MX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6B2E-5D12-454E-A7EB-B911A57B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2A42-2591-4490-818B-24D6E86F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E28-E071-4352-91EC-6B83F724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962-D35F-48A8-A06D-1CFFEC9EB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A352F-EEBA-4E3E-A7EE-544847C2B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EF045-BA04-4E31-B65D-47D85039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034E5-3F10-4324-BE0C-5DEF46C6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2A889-4CA7-41FF-8A5E-84D90D16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62056-B085-4611-9E40-EBAC510A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96AD0-B3E4-4990-B201-603EC1D9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2FD1B-5520-4EF8-B516-DCF863EC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091-D76D-4033-A86E-7F98BE29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E426B-4C6F-4487-96E0-D22A82C7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419CE-23D3-4DF7-AFB0-5B927169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D00A2-2C2B-424F-941C-C8BE33A9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9F961-DCD9-469A-93A6-06033677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74E1B-9364-4A71-A3E8-3FB8B2C2E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815A6-1EA6-42D4-B653-11A50601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27E3-4A66-4CB0-92E7-4CDDE2E6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F793-B4E7-4F11-9C97-01F54F47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EE496-E760-4DAB-8F41-D181D080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0F20-77DF-4300-90DC-ABD98196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ACA-5123-44ED-9EBC-0F77936C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EA81-867B-4D59-B73E-0ACE2B9E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4C712-9013-452E-A30E-216C018F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143B-CA35-4BDF-9379-B32CAD72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EA0A-5EFA-465C-AE75-78D0A259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24C2F-CF23-4730-B107-C12529EC4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2CE9C-7E1F-492D-B8F9-E0E4DC32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09ED-849B-44DA-85D2-CF2A7ADE2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ACCE4-7100-4E0E-A74F-9B48EF93D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E8BBF-6E90-4F6C-927B-6E13A0F7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FF0E3-CA83-4195-8E46-13F14C93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5874-A23D-4732-A426-B0D88291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4F15B-D24C-4FEB-87F8-696956F0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39EB8-209B-4A61-847C-BB87CDBB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84D99-E2A9-4047-B4D1-F0116212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E6543-0ADB-4E2F-AEA3-4C9DD633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63863-19F5-477D-B78F-C625E018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DB9CD-9304-4F95-A397-7B4C8999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12235-F578-46D2-B7E5-47BE0379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0200A-6615-47BD-9EAF-3CCB6096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E56F-070F-4C6B-A23E-62B4B66B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B8E-43E2-432C-AA16-AD241743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419-7E33-465E-BFFC-7D4C32D6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9C2C-BA9D-435C-A6ED-6695022B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1A1-8552-478F-904E-3193F7C6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C74-C095-4E24-9A1E-18BF423B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B4A4-DECD-4889-AF16-5355B5617BC9}" type="slidenum">
              <a:rPr b="0" lang="es-ES" sz="1200" spc="-1" strike="noStrike">
                <a:solidFill>
                  <a:srgbClr val="fefef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2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6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0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8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D1F8-285F-437B-8753-E2A2747F9EB0}" type="slidenum">
              <a:rPr b="0" lang="es-ES" sz="1200" spc="-1" strike="noStrike">
                <a:solidFill>
                  <a:srgbClr val="fefef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6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9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0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1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4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6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1487-B607-4538-ADE8-077B5D85FBA1}" type="slidenum">
              <a:rPr b="0" lang="es-ES" sz="1200" spc="-1" strike="noStrike">
                <a:solidFill>
                  <a:srgbClr val="fefef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54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58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62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65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68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efef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E0FD-C436-4E8D-A6AE-054A11B1AF36}" type="slidenum">
              <a:rPr b="0" lang="es-ES" sz="1200" spc="-1" strike="noStrike">
                <a:solidFill>
                  <a:srgbClr val="fefef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324000" y="2420640"/>
            <a:ext cx="8820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817560" indent="-45720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Resumen Nacional 2012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Resultados en la Base 2012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-533520">
              <a:lnSpc>
                <a:spcPct val="90000"/>
              </a:lnSpc>
              <a:buClr>
                <a:srgbClr val="e68200"/>
              </a:buClr>
              <a:buSzPct val="76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e68200"/>
                </a:solidFill>
                <a:uFillTx/>
                <a:latin typeface="Century Gothic"/>
              </a:rPr>
              <a:t>Universo y Masivida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-533520">
              <a:lnSpc>
                <a:spcPct val="90000"/>
              </a:lnSpc>
              <a:buClr>
                <a:srgbClr val="e68200"/>
              </a:buClr>
              <a:buSzPct val="76000"/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Soluciones Aportadas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-533520">
              <a:lnSpc>
                <a:spcPct val="90000"/>
              </a:lnSpc>
              <a:buClr>
                <a:srgbClr val="e68200"/>
              </a:buClr>
              <a:buSzPct val="76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Generalización de Soluciones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Trabajos en Municipio y Provincia 2012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Evaluación de las Provincia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817560" indent="-45720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Century Gothic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entury Gothic"/>
              </a:rPr>
              <a:t>Proyección 2013. Plan de Actividades Principale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Objetivos del 2013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Actividades Principales 2013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1525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5181480" y="-31680"/>
            <a:ext cx="26640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Century Gothic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1 Rectángulo"/>
          <p:cNvSpPr/>
          <p:nvPr/>
        </p:nvSpPr>
        <p:spPr>
          <a:xfrm>
            <a:off x="539640" y="1268280"/>
            <a:ext cx="7993080" cy="1008360"/>
          </a:xfrm>
          <a:prstGeom prst="rect">
            <a:avLst/>
          </a:prstGeom>
          <a:solidFill>
            <a:srgbClr val="6f9500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ahoma"/>
              </a:rPr>
              <a:t>REUNIÓN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1" i="1" lang="es-ES_tradnl" sz="1800" spc="-1" strike="noStrike">
                <a:solidFill>
                  <a:srgbClr val="ffffff"/>
                </a:solidFill>
                <a:latin typeface="Tahoma"/>
              </a:rPr>
              <a:t>SECRETARIOS PROVINCIALES DEL Fórum DE CIENCIA Y TÉCNICA         </a:t>
            </a:r>
            <a:r>
              <a:rPr b="1" i="1" lang="en-US" sz="1800" spc="-1" strike="noStrike">
                <a:solidFill>
                  <a:srgbClr val="94c600"/>
                </a:solidFill>
                <a:latin typeface="Tahoma"/>
              </a:rPr>
              <a:t>6 al 8 de Febrero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684360" y="1265400"/>
            <a:ext cx="81435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</a:rPr>
              <a:t>Objetivos Priorizados en 201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2060"/>
              </a:buClr>
              <a:buFont typeface="Tahoma"/>
              <a:buAutoNum type="arabicPeriod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Contribuir al cumplimiento de los Lineamientos Económico-Sociales del VI Congreso PCC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que correspondan 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Los centros participa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Municip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Provi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La tarea esencial se concentra en continuar estimulando la creatividad en el aporte de  soluciones técnicas de los colectivos de base, para resolver los problemas que inciden en su cumplimien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1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6"/>
          <p:cNvSpPr/>
          <p:nvPr/>
        </p:nvSpPr>
        <p:spPr>
          <a:xfrm>
            <a:off x="627120" y="1200240"/>
            <a:ext cx="7832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2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Preparación y Organización de los Fórum de Base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Trabajar en las soluciones técnicas de los principales problemas del centro identificados por la dirección administrativa que pueden incidir en el cumplimiento de su plan de producción ó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plicar las acciones que han sido út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Promover respaldo CAP y 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Contar con un programa respaldado por las direcciones administr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5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530280" y="1214280"/>
            <a:ext cx="7858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28480" indent="103320">
              <a:spcBef>
                <a:spcPts val="689"/>
              </a:spcBef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Objetivos Priorizados en 201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28480" indent="103320"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3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Continuar perfeccionando la aplicación del Criterio de Medida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 para evaluar el rol del movimiento e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85920" indent="-474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3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Centros participan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85920" indent="-474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3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Municipi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85920" indent="-474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3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Provinc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85920" indent="-474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530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28480" indent="103320">
              <a:buClr>
                <a:srgbClr val="002060"/>
              </a:buClr>
              <a:buFont typeface="Tahoma"/>
              <a:buAutoNum type="arabicPeriod" startAt="4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Capacitación de los Secretarios Municipales del Fórum y los Dirigentes de Base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, priorizando los centros mas importantes y aquellos con mayores problemas en el 20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28480" indent="103320">
              <a:buClr>
                <a:srgbClr val="002060"/>
              </a:buClr>
              <a:buFont typeface="Tahoma"/>
              <a:buAutoNum type="arabicPeriod" startAt="4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528480" indent="103320">
              <a:buClr>
                <a:srgbClr val="002060"/>
              </a:buClr>
              <a:buFont typeface="Tahoma"/>
              <a:buAutoNum type="arabicPeriod" startAt="4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Seguir perfeccionando el Control del Universo de Centros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 participantes en el  Movimiento  Fór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528480" indent="103320"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        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Sector Productivo  y Sector de Servici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3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6"/>
          <p:cNvSpPr/>
          <p:nvPr/>
        </p:nvSpPr>
        <p:spPr>
          <a:xfrm>
            <a:off x="642960" y="1228680"/>
            <a:ext cx="7858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Objetivos Priorizados en 20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2060"/>
              </a:buClr>
              <a:buFont typeface="Tahoma"/>
              <a:buAutoNum type="arabicPeriod" startAt="6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vanzar en el sistema de identificar y seleccionar los trabajos mas relevantes aportados en el períod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que son reconocidos y avalados por la administración de cada centro en: 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Fórum de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Municip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Provi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l concluir el  año 2013, entregar a cada organismo del territorio los seleccionados por la provincia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que benefician los programas y tareas priorizad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5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6"/>
          <p:cNvSpPr/>
          <p:nvPr/>
        </p:nvSpPr>
        <p:spPr>
          <a:xfrm>
            <a:off x="642960" y="1228680"/>
            <a:ext cx="7858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0360" indent="-360360" algn="just">
              <a:spcBef>
                <a:spcPts val="75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Objetivos Priorizados en 20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 algn="just"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 algn="just">
              <a:buClr>
                <a:srgbClr val="002060"/>
              </a:buClr>
              <a:buFont typeface="Tahoma"/>
              <a:buAutoNum type="arabicPeriod" startAt="7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Participar y colaborar junto al CITMA Territorial, la Dirección de Planificación, Finanzas y el Grupo de Perfeccionamiento Empresarial en la Generalización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de Soluciones y su respaldo en el Plan 201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 algn="just"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7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Continuar promoviendo el Reconocimiento Social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a los autores y coauto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 algn="just"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7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Reconocimiento a Centros que más se destaquen por sus resultado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y el Criterio de Medi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 algn="just"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5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642960" y="1197000"/>
            <a:ext cx="78580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9640" indent="-539640" algn="just">
              <a:spcBef>
                <a:spcPts val="751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Objetivos Priorizados en 201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9640" indent="-539640" algn="just"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10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Fortalecer el Sistema de Trabajo en la instancia Provincial y el Funcionamiento del Municipi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Estabilidad de los Secret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tención a los Municip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Capacitar a los dirigentes municipales y de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Divulgar los Documentos Básicos y las experiencias más úti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Sistema de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Realización del Balance Anual en Municipios y el Territo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cciones Conjuntas con el CITMA Territor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5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826920" y="836640"/>
            <a:ext cx="559296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e3d2d"/>
                </a:solidFill>
                <a:latin typeface="Arial"/>
              </a:rPr>
              <a:t>Actividades Principales 2013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Text Box 120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121"/>
          <p:cNvSpPr/>
          <p:nvPr/>
        </p:nvSpPr>
        <p:spPr>
          <a:xfrm>
            <a:off x="476280" y="148752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Reunión de Secretarios Provinciales del   Fór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    6 y 7 Febr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  11 y 12 de Sep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rigente: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tor. Fórum  C y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ticipante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c. Prov. Fó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Curso de Capacitación (Seminario Nacional) so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los  aspectos organizativos y metodológicos  relacionados con las actividades previstas para el añ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   7 y 8 Febr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rigente: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tor. Fórum  C y 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ticipante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c. Prov. Fó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4968720" y="9360"/>
            <a:ext cx="2988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I. Proyección 20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68720" y="9000"/>
            <a:ext cx="29880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I. Proyección 2013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2480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f9500"/>
                </a:solidFill>
                <a:latin typeface="Arial"/>
              </a:rPr>
              <a:t>Actividades Principales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f9500"/>
                </a:solidFill>
                <a:latin typeface="Arial"/>
              </a:rPr>
              <a:t>2013. (Continuación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5"/>
          <p:cNvSpPr/>
          <p:nvPr/>
        </p:nvSpPr>
        <p:spPr>
          <a:xfrm>
            <a:off x="539640" y="1233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Visitas  de trabajo para valorar el cumplimiento de los objetivos y actividades aprobadas en el año y relacionados con las actividades previstas para el añ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879480" y="2637000"/>
          <a:ext cx="7416720" cy="3429000"/>
        </p:xfrm>
        <a:graphic>
          <a:graphicData uri="http://schemas.openxmlformats.org/drawingml/2006/table">
            <a:tbl>
              <a:tblPr/>
              <a:tblGrid>
                <a:gridCol w="4210200"/>
                <a:gridCol w="32065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unicip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í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  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  Ciego de Avil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5 y 6 Marz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  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  S. Spírit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7 y 8 Marz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  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  Isla de la Juventu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5 Marz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  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  Camagüe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6 y 27 Marz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  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  Las Tun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28 y 29 Marz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  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  Villa Cla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9 y 10 Abr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  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 Cienfueg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1 y 12 Abr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1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    </a:t>
                      </a: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-  Pinar del Rí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2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18 y 19 Abr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68720" y="9000"/>
            <a:ext cx="29880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I. Proyección 2013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2480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f9500"/>
                </a:solidFill>
                <a:latin typeface="Arial"/>
              </a:rPr>
              <a:t>Actividades Principales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f9500"/>
                </a:solidFill>
                <a:latin typeface="Arial"/>
              </a:rPr>
              <a:t>2013. (Continuación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539640" y="105264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Visitas  de trabajo para valorar el cumplimiento de los objetivos y actividades aprobadas en el año y relacionados con las actividades previstas para el añ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826920" y="2201760"/>
          <a:ext cx="7417080" cy="3454560"/>
        </p:xfrm>
        <a:graphic>
          <a:graphicData uri="http://schemas.openxmlformats.org/drawingml/2006/table">
            <a:tbl>
              <a:tblPr/>
              <a:tblGrid>
                <a:gridCol w="4210200"/>
                <a:gridCol w="32068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unicip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í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Holguí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3 y 24 Abr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Gran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5 y 26 Abr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Artemi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7 y 8 Ma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Mayabe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9 y 10 Ma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Stgo.Cu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4 y 15 Ma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Guantána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6 y 17 Ma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Matanz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3 y 14 Ju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La Hab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1 y 12 Jul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408" name="7 Rectángulo"/>
          <p:cNvSpPr/>
          <p:nvPr/>
        </p:nvSpPr>
        <p:spPr>
          <a:xfrm>
            <a:off x="395280" y="5589720"/>
            <a:ext cx="840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irigente: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tor. Fórum  C y 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articipante: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entros seleccionados y entidades participan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el Movimien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68720" y="9000"/>
            <a:ext cx="29880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I. Proyección 2013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2480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f9500"/>
                </a:solidFill>
                <a:latin typeface="Arial"/>
              </a:rPr>
              <a:t>Actividades Principales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f9500"/>
                </a:solidFill>
                <a:latin typeface="Arial"/>
              </a:rPr>
              <a:t>2013. (Continuación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9640" y="144936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Balance 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177920" y="2149560"/>
          <a:ext cx="6767640" cy="3454200"/>
        </p:xfrm>
        <a:graphic>
          <a:graphicData uri="http://schemas.openxmlformats.org/drawingml/2006/table">
            <a:tbl>
              <a:tblPr/>
              <a:tblGrid>
                <a:gridCol w="3959280"/>
                <a:gridCol w="28083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unicip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í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Isla de la Juvent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Stgo.Cu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6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Guantána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7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Camagü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2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Las Tu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3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Gran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4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Holguí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5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Cienfueg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9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528120"/>
            <a:ext cx="828036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6f9500"/>
              </a:buClr>
              <a:buFont typeface="Century Gothic"/>
              <a:buAutoNum type="romanUcPeriod"/>
              <a:tabLst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200" spc="-1" strike="noStrike">
                <a:solidFill>
                  <a:srgbClr val="6f9500"/>
                </a:solidFill>
                <a:latin typeface="Century Gothic"/>
              </a:rPr>
              <a:t>Resumen Nacional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39640" y="1916280"/>
          <a:ext cx="8064720" cy="4430520"/>
        </p:xfrm>
        <a:graphic>
          <a:graphicData uri="http://schemas.openxmlformats.org/drawingml/2006/table">
            <a:tbl>
              <a:tblPr/>
              <a:tblGrid>
                <a:gridCol w="503280"/>
                <a:gridCol w="1370160"/>
                <a:gridCol w="1006560"/>
                <a:gridCol w="1008000"/>
                <a:gridCol w="1008000"/>
                <a:gridCol w="1008000"/>
                <a:gridCol w="1152720"/>
                <a:gridCol w="1008000"/>
              </a:tblGrid>
              <a:tr h="3049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. Base Realiza- 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s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t. Cen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iza- ron Fór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Parti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ores y Coaut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a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nar del R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5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6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Hab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9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0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ab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5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7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nfue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lla Cl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6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Spíri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9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0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. de </a:t>
                      </a:r>
                      <a:r>
                        <a:rPr b="1" lang="es-E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2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108"/>
          <p:cNvSpPr/>
          <p:nvPr/>
        </p:nvSpPr>
        <p:spPr>
          <a:xfrm>
            <a:off x="611280" y="1197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ados en la Base 2012  Universo y Mas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5148360" y="-31680"/>
            <a:ext cx="2663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ño 201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68720" y="9000"/>
            <a:ext cx="29880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>
              <a:buNone/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I. Proyección 2013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4248000" cy="7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f9500"/>
                </a:solidFill>
                <a:latin typeface="Arial"/>
              </a:rPr>
              <a:t>Actividades Principales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f9500"/>
                </a:solidFill>
                <a:latin typeface="Arial"/>
              </a:rPr>
              <a:t>2013. (Continuación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539640" y="157176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Balance Anua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403280" y="2154240"/>
          <a:ext cx="6553440" cy="3454560"/>
        </p:xfrm>
        <a:graphic>
          <a:graphicData uri="http://schemas.openxmlformats.org/drawingml/2006/table">
            <a:tbl>
              <a:tblPr/>
              <a:tblGrid>
                <a:gridCol w="3600360"/>
                <a:gridCol w="29530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unicip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í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Villa Cl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0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S.Spíri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1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Ciego de </a:t>
                      </a:r>
                      <a:r>
                        <a:rPr b="1" lang="es-E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Á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vi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2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Matanz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6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Pinar del Rí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7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Mayabe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8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Artemi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9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La Hab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5 de Dic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419" name="7 Rectángulo"/>
          <p:cNvSpPr/>
          <p:nvPr/>
        </p:nvSpPr>
        <p:spPr>
          <a:xfrm>
            <a:off x="879480" y="5761080"/>
            <a:ext cx="77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irigente: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tor. Fórum  C y 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articipante: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tidades participantes en el Fórum                          </a:t>
            </a:r>
            <a:r>
              <a:rPr b="1" lang="es-ES" sz="1800" spc="-1" strike="noStrike">
                <a:solidFill>
                  <a:srgbClr val="94c600"/>
                </a:solidFill>
                <a:latin typeface="Tahoma"/>
              </a:rPr>
              <a:t>F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6f9500"/>
              </a:buClr>
              <a:buFont typeface="Century Gothic"/>
              <a:buAutoNum type="romanUcPeriod"/>
              <a:tabLst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200" spc="-1" strike="noStrike">
                <a:solidFill>
                  <a:srgbClr val="6f9500"/>
                </a:solidFill>
                <a:latin typeface="Century Gothic"/>
              </a:rPr>
              <a:t>Resumen Nacional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539640" y="2133720"/>
          <a:ext cx="8064720" cy="4192560"/>
        </p:xfrm>
        <a:graphic>
          <a:graphicData uri="http://schemas.openxmlformats.org/drawingml/2006/table">
            <a:tbl>
              <a:tblPr/>
              <a:tblGrid>
                <a:gridCol w="503280"/>
                <a:gridCol w="1440000"/>
                <a:gridCol w="936720"/>
                <a:gridCol w="936360"/>
                <a:gridCol w="1079640"/>
                <a:gridCol w="1008000"/>
                <a:gridCol w="1152720"/>
                <a:gridCol w="1008000"/>
              </a:tblGrid>
              <a:tr h="33012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ver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. Base Realiza- 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s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nt. Cen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liza- ron Fór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Parti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tores y Coaut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a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agü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 T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7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4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lgu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46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8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go. de Cu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8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6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antán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la Juvent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7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967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75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56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</a:tr>
            </a:tbl>
          </a:graphicData>
        </a:graphic>
      </p:graphicFrame>
      <p:sp>
        <p:nvSpPr>
          <p:cNvPr id="350" name="Text Box 429"/>
          <p:cNvSpPr/>
          <p:nvPr/>
        </p:nvSpPr>
        <p:spPr>
          <a:xfrm>
            <a:off x="468360" y="134136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ado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la Base 2012  Universo y Masiv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5148360" y="-31680"/>
            <a:ext cx="2663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ño 201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5 Rectángulo"/>
          <p:cNvSpPr/>
          <p:nvPr/>
        </p:nvSpPr>
        <p:spPr>
          <a:xfrm>
            <a:off x="250920" y="115920"/>
            <a:ext cx="8713800" cy="6632640"/>
          </a:xfrm>
          <a:prstGeom prst="rect">
            <a:avLst/>
          </a:prstGeom>
          <a:solidFill>
            <a:srgbClr val="ffffff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94920" y="240840"/>
            <a:ext cx="828036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6f9500"/>
              </a:buClr>
              <a:buFont typeface="Century Gothic"/>
              <a:buAutoNum type="romanUcPeriod"/>
              <a:tabLst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200" spc="-1" strike="noStrike">
                <a:solidFill>
                  <a:srgbClr val="6f9500"/>
                </a:solidFill>
                <a:latin typeface="Century Gothic"/>
              </a:rPr>
              <a:t>Resumen Nacional 2012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611280" y="2060640"/>
          <a:ext cx="7993080" cy="4100400"/>
        </p:xfrm>
        <a:graphic>
          <a:graphicData uri="http://schemas.openxmlformats.org/drawingml/2006/table">
            <a:tbl>
              <a:tblPr/>
              <a:tblGrid>
                <a:gridCol w="503280"/>
                <a:gridCol w="1225440"/>
                <a:gridCol w="863640"/>
                <a:gridCol w="936720"/>
                <a:gridCol w="934920"/>
                <a:gridCol w="936720"/>
                <a:gridCol w="792000"/>
                <a:gridCol w="936720"/>
                <a:gridCol w="863640"/>
              </a:tblGrid>
              <a:tr h="869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. Ali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st. Impo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horro y Efc. Ener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o Am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eza Re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nar del R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8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7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9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0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Hab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6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ab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5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4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nfue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8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lla Cl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Spíri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 Box 138"/>
          <p:cNvSpPr/>
          <p:nvPr/>
        </p:nvSpPr>
        <p:spPr>
          <a:xfrm>
            <a:off x="39528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ados en la Base 201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ciones Aportad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1 Rectángulo"/>
          <p:cNvSpPr/>
          <p:nvPr/>
        </p:nvSpPr>
        <p:spPr>
          <a:xfrm>
            <a:off x="324000" y="225360"/>
            <a:ext cx="8713800" cy="6632640"/>
          </a:xfrm>
          <a:prstGeom prst="rect">
            <a:avLst/>
          </a:prstGeom>
          <a:solidFill>
            <a:srgbClr val="ffffff"/>
          </a:solidFill>
          <a:ln w="15840">
            <a:solidFill>
              <a:srgbClr val="6b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86920" y="260280"/>
            <a:ext cx="828036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6f9500"/>
              </a:buClr>
              <a:buFont typeface="Century Gothic"/>
              <a:buAutoNum type="romanUcPeriod"/>
              <a:tabLst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200" spc="-1" strike="noStrike">
                <a:solidFill>
                  <a:srgbClr val="6f9500"/>
                </a:solidFill>
                <a:latin typeface="Century Gothic"/>
              </a:rPr>
              <a:t>Resumen Nacional 2012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490680" y="1628640"/>
          <a:ext cx="8305560" cy="4653000"/>
        </p:xfrm>
        <a:graphic>
          <a:graphicData uri="http://schemas.openxmlformats.org/drawingml/2006/table">
            <a:tbl>
              <a:tblPr/>
              <a:tblGrid>
                <a:gridCol w="502920"/>
                <a:gridCol w="1393920"/>
                <a:gridCol w="984240"/>
                <a:gridCol w="935280"/>
                <a:gridCol w="936360"/>
                <a:gridCol w="863640"/>
                <a:gridCol w="863640"/>
                <a:gridCol w="889200"/>
                <a:gridCol w="936360"/>
              </a:tblGrid>
              <a:tr h="102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. Ali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st. Impor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horro y Efc. Ener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dio Am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eza Re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. de </a:t>
                      </a:r>
                      <a:r>
                        <a:rPr b="1" lang="es-E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8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9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8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9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agü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 T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7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lgu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95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0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5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go. de Cu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6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9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antán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la Juvent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967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0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1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22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11.4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72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7.5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3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7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0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15.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47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27.6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/>
                    </a:solidFill>
                  </a:tcPr>
                </a:tc>
              </a:tr>
            </a:tbl>
          </a:graphicData>
        </a:graphic>
      </p:graphicFrame>
      <p:sp>
        <p:nvSpPr>
          <p:cNvPr id="359" name="Text Box 151"/>
          <p:cNvSpPr/>
          <p:nvPr/>
        </p:nvSpPr>
        <p:spPr>
          <a:xfrm>
            <a:off x="395280" y="7351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ados en la Base 2012  Soluciones Aportad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8036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6f9500"/>
              </a:buClr>
              <a:buFont typeface="Century Gothic"/>
              <a:buAutoNum type="romanUcPeriod"/>
              <a:tabLst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200" spc="-1" strike="noStrike">
                <a:solidFill>
                  <a:srgbClr val="6f9500"/>
                </a:solidFill>
                <a:latin typeface="Century Gothic"/>
              </a:rPr>
              <a:t>Resumen Nacional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11280" y="2060640"/>
          <a:ext cx="7993080" cy="4170240"/>
        </p:xfrm>
        <a:graphic>
          <a:graphicData uri="http://schemas.openxmlformats.org/drawingml/2006/table">
            <a:tbl>
              <a:tblPr/>
              <a:tblGrid>
                <a:gridCol w="433440"/>
                <a:gridCol w="1301760"/>
                <a:gridCol w="1106280"/>
                <a:gridCol w="884160"/>
                <a:gridCol w="920880"/>
                <a:gridCol w="1114560"/>
                <a:gridCol w="1116000"/>
                <a:gridCol w="1116000"/>
              </a:tblGrid>
              <a:tr h="4572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de Cen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bajos  del Fórum en Plan de Genr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cuentros Realiz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P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P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miados Fórum Nac. Y Terr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nar del R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22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1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Hab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1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ab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7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nfue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lla Cl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Spíri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2" name="Text Box 214"/>
          <p:cNvSpPr/>
          <p:nvPr/>
        </p:nvSpPr>
        <p:spPr>
          <a:xfrm>
            <a:off x="539640" y="1197000"/>
            <a:ext cx="80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ados en la Base 2012  Generalización de Solu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Rectangle 4"/>
          <p:cNvSpPr/>
          <p:nvPr/>
        </p:nvSpPr>
        <p:spPr>
          <a:xfrm>
            <a:off x="5148360" y="-31680"/>
            <a:ext cx="2663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ño 201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8036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6f9500"/>
              </a:buClr>
              <a:buFont typeface="Century Gothic"/>
              <a:buAutoNum type="romanUcPeriod"/>
              <a:tabLst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200" spc="-1" strike="noStrike">
                <a:solidFill>
                  <a:srgbClr val="6f9500"/>
                </a:solidFill>
                <a:latin typeface="Century Gothic"/>
              </a:rPr>
              <a:t>Resumen Nacional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755640" y="1844640"/>
          <a:ext cx="7561440" cy="4579920"/>
        </p:xfrm>
        <a:graphic>
          <a:graphicData uri="http://schemas.openxmlformats.org/drawingml/2006/table">
            <a:tbl>
              <a:tblPr/>
              <a:tblGrid>
                <a:gridCol w="485640"/>
                <a:gridCol w="1386000"/>
                <a:gridCol w="860400"/>
                <a:gridCol w="738360"/>
                <a:gridCol w="961920"/>
                <a:gridCol w="1154160"/>
                <a:gridCol w="966600"/>
                <a:gridCol w="1008360"/>
              </a:tblGrid>
              <a:tr h="4935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 de Cent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bajos  del Fórum en Plan de Genr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cuentros Realiz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 P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 Pl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miados Fórum Nac. Y Terri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rri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. de </a:t>
                      </a:r>
                      <a:r>
                        <a:rPr b="1" lang="es-E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2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agü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 T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19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lgu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22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go. de Cu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antán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15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la Juvent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186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6" name="Text Box 214"/>
          <p:cNvSpPr/>
          <p:nvPr/>
        </p:nvSpPr>
        <p:spPr>
          <a:xfrm>
            <a:off x="611280" y="1125360"/>
            <a:ext cx="78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ados en la Base 2012  Generalización de Soluc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5148360" y="-31680"/>
            <a:ext cx="2663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ño 201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4920" y="528120"/>
            <a:ext cx="828036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6f9500"/>
              </a:buClr>
              <a:buFont typeface="Century Gothic"/>
              <a:buAutoNum type="romanUcPeriod"/>
              <a:tabLst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200" spc="-1" strike="noStrike">
                <a:solidFill>
                  <a:srgbClr val="6f9500"/>
                </a:solidFill>
                <a:latin typeface="Century Gothic"/>
              </a:rPr>
              <a:t>Resumen Nacional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11280" y="2054160"/>
          <a:ext cx="7993080" cy="3984840"/>
        </p:xfrm>
        <a:graphic>
          <a:graphicData uri="http://schemas.openxmlformats.org/drawingml/2006/table">
            <a:tbl>
              <a:tblPr/>
              <a:tblGrid>
                <a:gridCol w="503280"/>
                <a:gridCol w="1512720"/>
                <a:gridCol w="1285920"/>
                <a:gridCol w="1028520"/>
                <a:gridCol w="1070280"/>
                <a:gridCol w="1295280"/>
                <a:gridCol w="1297080"/>
              </a:tblGrid>
              <a:tr h="432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bajos en 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bajos en 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ib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mi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ib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eccionado ó Ev. Téc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eg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nar del Rí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temi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 Hab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yabe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nfueg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lla Cla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5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. Spíri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0" name="Text Box 185"/>
          <p:cNvSpPr/>
          <p:nvPr/>
        </p:nvSpPr>
        <p:spPr>
          <a:xfrm>
            <a:off x="395280" y="134136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bajos en Municipio y Provincia 20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148360" y="-31680"/>
            <a:ext cx="2663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ño 201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1640" y="528120"/>
            <a:ext cx="8280720" cy="739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buClr>
                <a:srgbClr val="6f9500"/>
              </a:buClr>
              <a:buFont typeface="Century Gothic"/>
              <a:buAutoNum type="romanUcPeriod"/>
              <a:tabLst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3200" spc="-1" strike="noStrike">
                <a:solidFill>
                  <a:srgbClr val="6f9500"/>
                </a:solidFill>
                <a:latin typeface="Century Gothic"/>
              </a:rPr>
              <a:t>Resumen Nacional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11280" y="2143080"/>
          <a:ext cx="7921440" cy="4368960"/>
        </p:xfrm>
        <a:graphic>
          <a:graphicData uri="http://schemas.openxmlformats.org/drawingml/2006/table">
            <a:tbl>
              <a:tblPr/>
              <a:tblGrid>
                <a:gridCol w="576000"/>
                <a:gridCol w="1481400"/>
                <a:gridCol w="1182600"/>
                <a:gridCol w="1008000"/>
                <a:gridCol w="1008000"/>
                <a:gridCol w="1368720"/>
                <a:gridCol w="1296720"/>
              </a:tblGrid>
              <a:tr h="51768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bajos en Municip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bajos en Provi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4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ib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mi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ib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leccionado ó Ev. Téc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treg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s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. de </a:t>
                      </a:r>
                      <a:r>
                        <a:rPr b="1" lang="es-ES" sz="2000" spc="-1" strike="noStrike">
                          <a:solidFill>
                            <a:srgbClr val="3e3d2d"/>
                          </a:solidFill>
                          <a:latin typeface="Century Gothic"/>
                        </a:rPr>
                        <a:t>Á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magü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s T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lguí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n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go. de Cu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uantána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la Juventu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3351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1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2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9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80808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4" name="Text Box 214"/>
          <p:cNvSpPr/>
          <p:nvPr/>
        </p:nvSpPr>
        <p:spPr>
          <a:xfrm>
            <a:off x="539640" y="123048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bajos en Municipio y Provincia 20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5148360" y="-31680"/>
            <a:ext cx="266364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Año 201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20:14:20Z</dcterms:created>
  <dc:creator>pc</dc:creator>
  <dc:description/>
  <dc:language>en-US</dc:language>
  <cp:lastModifiedBy>user</cp:lastModifiedBy>
  <dcterms:modified xsi:type="dcterms:W3CDTF">2013-02-28T15:13:57Z</dcterms:modified>
  <cp:revision>107</cp:revision>
  <dc:subject/>
  <dc:title>REUNIÓN DE SECRETARIOS PROVINCIALES DEL FORUM DE CIENCIA Y TÉCNICA</dc:title>
</cp:coreProperties>
</file>