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91B0-C5CF-49A1-B33E-3F95CBDE528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EA36DB20-CB14-4F09-BA2A-E4E19A539E60}" type="slidenum">
              <a:rPr b="0" lang="es-MX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BFDD-0E30-40FD-9650-F5A22EE3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7AF3-C4BE-4689-A426-F6F0743DF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B6D6-0785-4EE1-997A-B42CBC3F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0C60-D348-4953-A672-771046AEE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F0AD-B9BB-49E4-A39B-F27D8E9B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9A8A-A516-4847-8CAC-F4B2CB73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DDA-78CB-4864-BAF3-013CC69F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4EB4-C6E8-4361-8DCB-ED773C25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1904-C1A2-4AEC-969E-1E27D0CF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E615-E855-413F-8F6C-B4AF62AF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A5A2-2829-46BE-944D-A9677AF2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466C-38B6-474A-879E-27C8B55C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9BA3-2680-4C19-898E-0B468235F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Oval 10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351640" cy="1657080"/>
          </a:xfrm>
          <a:prstGeom prst="rect">
            <a:avLst/>
          </a:prstGeom>
          <a:ln w="0">
            <a:noFill/>
          </a:ln>
        </p:spPr>
      </p:pic>
      <p:sp>
        <p:nvSpPr>
          <p:cNvPr id="49" name="Line 7"/>
          <p:cNvSpPr/>
          <p:nvPr/>
        </p:nvSpPr>
        <p:spPr>
          <a:xfrm>
            <a:off x="900000" y="3429000"/>
            <a:ext cx="7748640" cy="0"/>
          </a:xfrm>
          <a:prstGeom prst="line">
            <a:avLst/>
          </a:prstGeom>
          <a:ln w="5724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 Rectángulo"/>
          <p:cNvSpPr/>
          <p:nvPr/>
        </p:nvSpPr>
        <p:spPr>
          <a:xfrm>
            <a:off x="5746680" y="2556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Tema I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5 Elipse"/>
          <p:cNvGrpSpPr/>
          <p:nvPr/>
        </p:nvGrpSpPr>
        <p:grpSpPr>
          <a:xfrm>
            <a:off x="7778880" y="6284880"/>
            <a:ext cx="1225440" cy="682560"/>
            <a:chOff x="7778880" y="6284880"/>
            <a:chExt cx="1225440" cy="682560"/>
          </a:xfrm>
        </p:grpSpPr>
        <p:pic>
          <p:nvPicPr>
            <p:cNvPr id="52" name="5 Elipse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778880" y="6284880"/>
              <a:ext cx="12254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7980480" y="6389640"/>
              <a:ext cx="8157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5"/>
          <p:cNvSpPr/>
          <p:nvPr/>
        </p:nvSpPr>
        <p:spPr>
          <a:xfrm>
            <a:off x="7956720" y="6381720"/>
            <a:ext cx="83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4" action="ppaction://hlinksldjump"/>
              </a:rPr>
              <a:t>In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1001880" y="4292640"/>
            <a:ext cx="709740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Tahoma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68720" y="9000"/>
            <a:ext cx="29880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 algn="ctr">
              <a:buNone/>
              <a:tabLst>
                <a:tab algn="l" pos="0"/>
                <a:tab algn="l" pos="187164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I. Proyección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0"/>
            <a:ext cx="864072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f9500"/>
                </a:solidFill>
                <a:latin typeface="Arial"/>
              </a:rPr>
              <a:t>Actividades Principales 201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879480" y="178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39640" y="1052640"/>
            <a:ext cx="79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Visitas  de trabajo para valorar el cumplimiento de los objetivos y actividades aprobadas en el año y relacionados con las actividades previstas para el añ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8 Elipse"/>
          <p:cNvGrpSpPr/>
          <p:nvPr/>
        </p:nvGrpSpPr>
        <p:grpSpPr>
          <a:xfrm>
            <a:off x="7778880" y="6284880"/>
            <a:ext cx="1225440" cy="682560"/>
            <a:chOff x="7778880" y="6284880"/>
            <a:chExt cx="1225440" cy="682560"/>
          </a:xfrm>
        </p:grpSpPr>
        <p:pic>
          <p:nvPicPr>
            <p:cNvPr id="121" name="8 Elipse" descr=""/>
            <p:cNvPicPr/>
            <p:nvPr/>
          </p:nvPicPr>
          <p:blipFill>
            <a:blip r:embed="rId1"/>
            <a:stretch/>
          </p:blipFill>
          <p:spPr>
            <a:xfrm>
              <a:off x="7778880" y="6284880"/>
              <a:ext cx="12254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7980480" y="6389640"/>
              <a:ext cx="8157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8"/>
          <p:cNvSpPr/>
          <p:nvPr/>
        </p:nvSpPr>
        <p:spPr>
          <a:xfrm>
            <a:off x="7956720" y="6381720"/>
            <a:ext cx="8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In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26920" y="2201760"/>
          <a:ext cx="7417080" cy="3454560"/>
        </p:xfrm>
        <a:graphic>
          <a:graphicData uri="http://schemas.openxmlformats.org/drawingml/2006/table">
            <a:tbl>
              <a:tblPr/>
              <a:tblGrid>
                <a:gridCol w="4210200"/>
                <a:gridCol w="320688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nicip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í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 Holgu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23 y 24 Abr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 Gran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25 y 26 Abr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 Artemi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7 y 8 Ma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 Mayabe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9 y 10 Ma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Stgo.Cub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14 y 15 Ma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 Guantana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16 y 17 May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Matanz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13 y 14 Jun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 La Haba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11 y 12 Jul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  <p:sp>
        <p:nvSpPr>
          <p:cNvPr id="125" name="7 Rectángulo"/>
          <p:cNvSpPr/>
          <p:nvPr/>
        </p:nvSpPr>
        <p:spPr>
          <a:xfrm>
            <a:off x="395280" y="5661000"/>
            <a:ext cx="840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Dirigente: </a:t>
            </a: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tor. Forum  C y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articipante: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entros seleccionados y entidades particpa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el Movi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68720" y="9000"/>
            <a:ext cx="29880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 algn="ctr">
              <a:buNone/>
              <a:tabLst>
                <a:tab algn="l" pos="0"/>
                <a:tab algn="l" pos="187164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I. Proyección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756144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f9500"/>
                </a:solidFill>
                <a:latin typeface="Arial"/>
              </a:rPr>
              <a:t>Actividades Principales 201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879480" y="178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7 Elipse"/>
          <p:cNvGrpSpPr/>
          <p:nvPr/>
        </p:nvGrpSpPr>
        <p:grpSpPr>
          <a:xfrm>
            <a:off x="7778880" y="6284880"/>
            <a:ext cx="1225440" cy="682560"/>
            <a:chOff x="7778880" y="6284880"/>
            <a:chExt cx="1225440" cy="682560"/>
          </a:xfrm>
        </p:grpSpPr>
        <p:pic>
          <p:nvPicPr>
            <p:cNvPr id="130" name="7 Elipse" descr=""/>
            <p:cNvPicPr/>
            <p:nvPr/>
          </p:nvPicPr>
          <p:blipFill>
            <a:blip r:embed="rId1"/>
            <a:stretch/>
          </p:blipFill>
          <p:spPr>
            <a:xfrm>
              <a:off x="7778880" y="6284880"/>
              <a:ext cx="12254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7980480" y="6389640"/>
              <a:ext cx="8157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5"/>
          <p:cNvSpPr/>
          <p:nvPr/>
        </p:nvSpPr>
        <p:spPr>
          <a:xfrm>
            <a:off x="539640" y="112536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Balance An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7956720" y="6381720"/>
            <a:ext cx="8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In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177920" y="1773360"/>
          <a:ext cx="6767640" cy="3574800"/>
        </p:xfrm>
        <a:graphic>
          <a:graphicData uri="http://schemas.openxmlformats.org/drawingml/2006/table">
            <a:tbl>
              <a:tblPr/>
              <a:tblGrid>
                <a:gridCol w="3959280"/>
                <a:gridCol w="280836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nicipi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í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Isla Juventu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1 de Noviem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Stgo.Cub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6 de Noviem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Guantana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7 de Noviem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Camagu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12 de Noviem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Las Tun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13 de Noviem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Gran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14 de Noviem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Holgu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15 de Noviem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 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Cienfueg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19 de Noviem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68720" y="9000"/>
            <a:ext cx="29880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 algn="ctr">
              <a:buNone/>
              <a:tabLst>
                <a:tab algn="l" pos="0"/>
                <a:tab algn="l" pos="187164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I. Proyección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741672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f9500"/>
                </a:solidFill>
                <a:latin typeface="Arial"/>
              </a:rPr>
              <a:t>Actividades Principales 201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879480" y="178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39640" y="1268280"/>
            <a:ext cx="79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Balance Anu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8 Elipse"/>
          <p:cNvGrpSpPr/>
          <p:nvPr/>
        </p:nvGrpSpPr>
        <p:grpSpPr>
          <a:xfrm>
            <a:off x="7778880" y="6284880"/>
            <a:ext cx="1225440" cy="682560"/>
            <a:chOff x="7778880" y="6284880"/>
            <a:chExt cx="1225440" cy="682560"/>
          </a:xfrm>
        </p:grpSpPr>
        <p:pic>
          <p:nvPicPr>
            <p:cNvPr id="140" name="8 Elipse" descr=""/>
            <p:cNvPicPr/>
            <p:nvPr/>
          </p:nvPicPr>
          <p:blipFill>
            <a:blip r:embed="rId1"/>
            <a:stretch/>
          </p:blipFill>
          <p:spPr>
            <a:xfrm>
              <a:off x="7778880" y="6284880"/>
              <a:ext cx="12254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980480" y="6389640"/>
              <a:ext cx="8157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Text Box 8"/>
          <p:cNvSpPr/>
          <p:nvPr/>
        </p:nvSpPr>
        <p:spPr>
          <a:xfrm>
            <a:off x="7956720" y="6491160"/>
            <a:ext cx="8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In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403280" y="1916280"/>
          <a:ext cx="6553440" cy="3574800"/>
        </p:xfrm>
        <a:graphic>
          <a:graphicData uri="http://schemas.openxmlformats.org/drawingml/2006/table">
            <a:tbl>
              <a:tblPr/>
              <a:tblGrid>
                <a:gridCol w="3600360"/>
                <a:gridCol w="295308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nicip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í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Villa Cla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20 de Noviem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S.Spirit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21 de Noviem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Ciego de Avi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22 de Noviem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Matanz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26 de Noviem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Pinar del Rí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27 de Noviem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Mayabe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28 de Noviem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</a:t>
                      </a: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Artemi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29 de Noviemb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984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 </a:t>
                      </a:r>
                      <a:r>
                        <a:rPr b="1" lang="es-MX" sz="32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- La Haban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000000"/>
                          </a:solidFill>
                          <a:latin typeface="Century Gothic (Cuerpo)"/>
                        </a:rPr>
                        <a:t>5 de Diciemb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  <p:sp>
        <p:nvSpPr>
          <p:cNvPr id="144" name="7 Rectángulo"/>
          <p:cNvSpPr/>
          <p:nvPr/>
        </p:nvSpPr>
        <p:spPr>
          <a:xfrm>
            <a:off x="879480" y="5761080"/>
            <a:ext cx="606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Dirigente: </a:t>
            </a: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tor. Forum  C y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articipante: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ntidades participantes en el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5"/>
          <p:cNvSpPr/>
          <p:nvPr/>
        </p:nvSpPr>
        <p:spPr>
          <a:xfrm>
            <a:off x="785880" y="851760"/>
            <a:ext cx="7127640" cy="954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f5f"/>
                </a:solidFill>
                <a:latin typeface="Tahoma"/>
              </a:rPr>
              <a:t>Objetivos; Rol y Funciones importantes del Forum de 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785880" y="2462760"/>
            <a:ext cx="7632720" cy="4136040"/>
            <a:chOff x="785880" y="2462760"/>
            <a:chExt cx="7632720" cy="4136040"/>
          </a:xfrm>
        </p:grpSpPr>
        <p:sp>
          <p:nvSpPr>
            <p:cNvPr id="147" name="Rectangle 6"/>
            <p:cNvSpPr/>
            <p:nvPr/>
          </p:nvSpPr>
          <p:spPr>
            <a:xfrm>
              <a:off x="785880" y="2589840"/>
              <a:ext cx="7632720" cy="400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990720" indent="-533520">
                <a:lnSpc>
                  <a:spcPct val="100000"/>
                </a:lnSpc>
                <a:spcBef>
                  <a:spcPts val="1199"/>
                </a:spcBef>
                <a:buClr>
                  <a:srgbClr val="000000"/>
                </a:buClr>
                <a:buFont typeface="Tahoma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060"/>
                  </a:solidFill>
                  <a:latin typeface="Tahoma"/>
                </a:rPr>
                <a:t>Analizar el aporte de ciencia y la técnica a nivel de centro</a:t>
              </a:r>
              <a:r>
                <a:rPr b="0" lang="en-US" sz="2400" spc="-1" strike="noStrike">
                  <a:solidFill>
                    <a:srgbClr val="002060"/>
                  </a:solidFill>
                  <a:latin typeface="Tahoma"/>
                </a:rPr>
                <a:t>. Beneficios y resultados. Carácter masivo y participativo del colectivo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90720" indent="-533520">
                <a:lnSpc>
                  <a:spcPct val="100000"/>
                </a:lnSpc>
                <a:spcBef>
                  <a:spcPts val="1199"/>
                </a:spcBef>
                <a:buClr>
                  <a:srgbClr val="000000"/>
                </a:buClr>
                <a:buFont typeface="Tahoma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060"/>
                  </a:solidFill>
                  <a:latin typeface="Tahoma"/>
                </a:rPr>
                <a:t>Identificar y seleccionar los trabajos</a:t>
              </a:r>
              <a:r>
                <a:rPr b="0" lang="en-US" sz="2400" spc="-1" strike="noStrike">
                  <a:solidFill>
                    <a:srgbClr val="002060"/>
                  </a:solidFill>
                  <a:latin typeface="Tahoma"/>
                </a:rPr>
                <a:t>  </a:t>
              </a:r>
              <a:r>
                <a:rPr b="1" lang="en-US" sz="2400" spc="-1" strike="noStrike">
                  <a:solidFill>
                    <a:srgbClr val="002060"/>
                  </a:solidFill>
                  <a:latin typeface="Tahoma"/>
                </a:rPr>
                <a:t>más</a:t>
              </a:r>
              <a:r>
                <a:rPr b="0" lang="en-US" sz="2400" spc="-1" strike="noStrike">
                  <a:solidFill>
                    <a:srgbClr val="002060"/>
                  </a:solidFill>
                  <a:latin typeface="Tahoma"/>
                </a:rPr>
                <a:t> </a:t>
              </a:r>
              <a:r>
                <a:rPr b="1" lang="en-US" sz="2400" spc="-1" strike="noStrike">
                  <a:solidFill>
                    <a:srgbClr val="002060"/>
                  </a:solidFill>
                  <a:latin typeface="Tahoma"/>
                </a:rPr>
                <a:t>relevantes </a:t>
              </a:r>
              <a:r>
                <a:rPr b="0" lang="en-US" sz="2400" spc="-1" strike="noStrike">
                  <a:solidFill>
                    <a:srgbClr val="002060"/>
                  </a:solidFill>
                  <a:latin typeface="Tahoma"/>
                </a:rPr>
                <a:t>en el país, aplicados en cada centro de base cada año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90720" indent="-533520">
                <a:lnSpc>
                  <a:spcPct val="100000"/>
                </a:lnSpc>
                <a:spcBef>
                  <a:spcPts val="1199"/>
                </a:spcBef>
                <a:buClr>
                  <a:srgbClr val="000000"/>
                </a:buClr>
                <a:buFont typeface="Tahoma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060"/>
                  </a:solidFill>
                  <a:latin typeface="Tahoma"/>
                </a:rPr>
                <a:t>Reconocimiento Social a los autores</a:t>
              </a:r>
              <a:r>
                <a:rPr b="0" lang="en-US" sz="2400" spc="-1" strike="noStrike">
                  <a:solidFill>
                    <a:srgbClr val="002060"/>
                  </a:solidFill>
                  <a:latin typeface="Tahoma"/>
                </a:rPr>
                <a:t> de los mismos, identificando al talento que sobresale y estimulando su espíritu de cooperación unid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1001880" y="2462760"/>
              <a:ext cx="681120" cy="9183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9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06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11"/>
            <p:cNvSpPr/>
            <p:nvPr/>
          </p:nvSpPr>
          <p:spPr>
            <a:xfrm>
              <a:off x="1001880" y="3680640"/>
              <a:ext cx="681120" cy="9176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9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06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12"/>
            <p:cNvSpPr/>
            <p:nvPr/>
          </p:nvSpPr>
          <p:spPr>
            <a:xfrm>
              <a:off x="1001880" y="4910760"/>
              <a:ext cx="681120" cy="9183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9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06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152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6"/>
          <p:cNvSpPr/>
          <p:nvPr/>
        </p:nvSpPr>
        <p:spPr>
          <a:xfrm>
            <a:off x="1722600" y="1865160"/>
            <a:ext cx="3024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Tahoma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Tahoma"/>
              </a:rPr>
              <a:t>Son 6 Fun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0"/>
          <p:cNvSpPr/>
          <p:nvPr/>
        </p:nvSpPr>
        <p:spPr>
          <a:xfrm>
            <a:off x="781200" y="127080"/>
            <a:ext cx="7075440" cy="644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1f5f"/>
                </a:solidFill>
                <a:latin typeface="Tahoma"/>
              </a:rPr>
              <a:t>VI. FORUM D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1"/>
          <p:cNvGrpSpPr/>
          <p:nvPr/>
        </p:nvGrpSpPr>
        <p:grpSpPr>
          <a:xfrm>
            <a:off x="611280" y="2452680"/>
            <a:ext cx="7632720" cy="4071600"/>
            <a:chOff x="611280" y="2452680"/>
            <a:chExt cx="7632720" cy="4071600"/>
          </a:xfrm>
        </p:grpSpPr>
        <p:sp>
          <p:nvSpPr>
            <p:cNvPr id="157" name="Rectangle 7"/>
            <p:cNvSpPr/>
            <p:nvPr/>
          </p:nvSpPr>
          <p:spPr>
            <a:xfrm>
              <a:off x="611280" y="2625480"/>
              <a:ext cx="7632720" cy="38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990720" indent="-533520">
                <a:lnSpc>
                  <a:spcPct val="100000"/>
                </a:lnSpc>
                <a:spcBef>
                  <a:spcPts val="1199"/>
                </a:spcBef>
                <a:buClr>
                  <a:srgbClr val="000000"/>
                </a:buClr>
                <a:buFont typeface="Tahoma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060"/>
                  </a:solidFill>
                  <a:latin typeface="Tahoma"/>
                </a:rPr>
                <a:t>Proponer los trabajos más significativos al Forum Municipal</a:t>
              </a:r>
              <a:r>
                <a:rPr b="0" lang="en-US" sz="2400" spc="-1" strike="noStrike">
                  <a:solidFill>
                    <a:srgbClr val="002060"/>
                  </a:solidFill>
                  <a:latin typeface="Tahoma"/>
                </a:rPr>
                <a:t> de Ciencia y Técnic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90720" indent="-533520">
                <a:lnSpc>
                  <a:spcPct val="100000"/>
                </a:lnSpc>
                <a:spcBef>
                  <a:spcPts val="1199"/>
                </a:spcBef>
                <a:buClr>
                  <a:srgbClr val="000000"/>
                </a:buClr>
                <a:buFont typeface="Tahoma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060"/>
                  </a:solidFill>
                  <a:latin typeface="Tahoma"/>
                </a:rPr>
                <a:t>Promover y colaborar en la rápida generalización</a:t>
              </a:r>
              <a:r>
                <a:rPr b="0" lang="en-US" sz="2400" spc="-1" strike="noStrike">
                  <a:solidFill>
                    <a:srgbClr val="002060"/>
                  </a:solidFill>
                  <a:latin typeface="Tahoma"/>
                </a:rPr>
                <a:t> de las soluciones útiles y probadas, así como, la cooperación de los autores de dichos trabajo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990720" indent="-533520">
                <a:lnSpc>
                  <a:spcPct val="100000"/>
                </a:lnSpc>
                <a:spcBef>
                  <a:spcPts val="1199"/>
                </a:spcBef>
                <a:buClr>
                  <a:srgbClr val="000000"/>
                </a:buClr>
                <a:buFont typeface="Tahoma"/>
                <a:buAutoNum type="arabicPeriod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060"/>
                  </a:solidFill>
                  <a:latin typeface="Tahoma"/>
                </a:rPr>
                <a:t>Mide y sirve como un “Criterio de Medida”,</a:t>
              </a:r>
              <a:r>
                <a:rPr b="0" lang="en-US" sz="2400" spc="-1" strike="noStrike">
                  <a:solidFill>
                    <a:srgbClr val="002060"/>
                  </a:solidFill>
                  <a:latin typeface="Tahoma"/>
                </a:rPr>
                <a:t> para evaluar el carácter masivo y participativo de la ciencia y la técnica en cada centro y grado de integració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AutoShape 8"/>
            <p:cNvSpPr/>
            <p:nvPr/>
          </p:nvSpPr>
          <p:spPr>
            <a:xfrm>
              <a:off x="827280" y="2452680"/>
              <a:ext cx="681120" cy="9190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9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06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AutoShape 9"/>
            <p:cNvSpPr/>
            <p:nvPr/>
          </p:nvSpPr>
          <p:spPr>
            <a:xfrm>
              <a:off x="827280" y="3337920"/>
              <a:ext cx="681120" cy="9190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9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06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0"/>
            <p:cNvSpPr/>
            <p:nvPr/>
          </p:nvSpPr>
          <p:spPr>
            <a:xfrm>
              <a:off x="900360" y="4940280"/>
              <a:ext cx="681120" cy="91908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  <a:effectLst>
              <a:outerShdw dist="17819" dir="2700000" blurRad="0" rotWithShape="0">
                <a:srgbClr val="997a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06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162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AutoShape 5"/>
          <p:cNvSpPr/>
          <p:nvPr/>
        </p:nvSpPr>
        <p:spPr>
          <a:xfrm>
            <a:off x="714240" y="1351800"/>
            <a:ext cx="7128000" cy="954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f1f5f"/>
                </a:solidFill>
                <a:latin typeface="Tahoma"/>
              </a:rPr>
              <a:t>Objetivos; Rol y Funciones importantes del Forum de Base: (Cont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0"/>
          <p:cNvSpPr/>
          <p:nvPr/>
        </p:nvSpPr>
        <p:spPr>
          <a:xfrm>
            <a:off x="781200" y="470160"/>
            <a:ext cx="7075440" cy="644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1f5f"/>
                </a:solidFill>
                <a:latin typeface="Tahoma"/>
              </a:rPr>
              <a:t>VI. FORUM D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>
            <a:off x="642960" y="851760"/>
            <a:ext cx="7581960" cy="954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f5f"/>
                </a:solidFill>
                <a:latin typeface="Tahoma"/>
              </a:rPr>
              <a:t>Experiencias útiles realizadas en ocasiones anteriores en apoyo al Forum de Bas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168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Rectangle 6"/>
          <p:cNvSpPr/>
          <p:nvPr/>
        </p:nvSpPr>
        <p:spPr>
          <a:xfrm>
            <a:off x="1547640" y="1928880"/>
            <a:ext cx="720108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En marzo analizar en la Comisión Municipal del Forum las acciones a realizar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de conjunto con los organismos, organizaciones Sociales y de masas participantes en el Fo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Confeccionar un cronograma de apoyo y atención a los Forum de Base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por las organizaciones del centro y los órganos superiores de dirección y tener un encuentro con la dirección de los organismos para su aten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Proyectar la participación de los dirigentes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en los Forum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785880" y="1857240"/>
            <a:ext cx="681120" cy="822600"/>
          </a:xfrm>
          <a:custGeom>
            <a:avLst/>
            <a:gdLst>
              <a:gd name="textAreaLeft" fmla="*/ 106200 w 681120"/>
              <a:gd name="textAreaRight" fmla="*/ 596160 w 681120"/>
              <a:gd name="textAreaTop" fmla="*/ 205560 h 822600"/>
              <a:gd name="textAreaBottom" fmla="*/ 617040 h 822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741240" y="3398760"/>
            <a:ext cx="681120" cy="822240"/>
          </a:xfrm>
          <a:custGeom>
            <a:avLst/>
            <a:gdLst>
              <a:gd name="textAreaLeft" fmla="*/ 106200 w 681120"/>
              <a:gd name="textAreaRight" fmla="*/ 596160 w 681120"/>
              <a:gd name="textAreaTop" fmla="*/ 205560 h 822240"/>
              <a:gd name="textAreaBottom" fmla="*/ 616680 h 822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755640" y="5229360"/>
            <a:ext cx="681120" cy="822240"/>
          </a:xfrm>
          <a:custGeom>
            <a:avLst/>
            <a:gdLst>
              <a:gd name="textAreaLeft" fmla="*/ 106200 w 681120"/>
              <a:gd name="textAreaRight" fmla="*/ 596160 w 681120"/>
              <a:gd name="textAreaTop" fmla="*/ 205560 h 822240"/>
              <a:gd name="textAreaBottom" fmla="*/ 616680 h 822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755640" y="95400"/>
            <a:ext cx="7075440" cy="644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1f5f"/>
                </a:solidFill>
                <a:latin typeface="Tahoma"/>
              </a:rPr>
              <a:t>VI. FORUM D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2"/>
          <p:cNvSpPr/>
          <p:nvPr/>
        </p:nvSpPr>
        <p:spPr>
          <a:xfrm>
            <a:off x="642960" y="969120"/>
            <a:ext cx="7797600" cy="954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f1f5f"/>
                </a:solidFill>
                <a:latin typeface="Tahoma"/>
              </a:rPr>
              <a:t>Experiencias útiles realizadas en ocasiones anteriores en apoyo al Forum de Base.</a:t>
            </a:r>
            <a:r>
              <a:rPr b="1" lang="es-ES" sz="1800" spc="-1" strike="noStrike">
                <a:solidFill>
                  <a:srgbClr val="1f1f5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1f1f5f"/>
                </a:solidFill>
                <a:latin typeface="Tahoma"/>
              </a:rPr>
              <a:t>(Cont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177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le 6"/>
          <p:cNvSpPr/>
          <p:nvPr/>
        </p:nvSpPr>
        <p:spPr>
          <a:xfrm>
            <a:off x="1116000" y="2117880"/>
            <a:ext cx="781200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36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2060"/>
                </a:solidFill>
                <a:latin typeface="Tahoma"/>
              </a:rPr>
              <a:t>Carta del Presidente del CAP </a:t>
            </a:r>
            <a:r>
              <a:rPr b="0" lang="es-ES" sz="2400" spc="-1" strike="noStrike">
                <a:solidFill>
                  <a:srgbClr val="002060"/>
                </a:solidFill>
                <a:latin typeface="Tahoma"/>
              </a:rPr>
              <a:t> a municipios y organismos del territorio orientando la atención y organización de los Forum de Base a realiz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2060"/>
                </a:solidFill>
                <a:latin typeface="Tahoma"/>
              </a:rPr>
              <a:t>Punto en la “Reunión de Directores” presidida por el Presidente del Gobierno y 1er Sec. PCC</a:t>
            </a:r>
            <a:r>
              <a:rPr b="0" lang="es-ES" sz="2400" spc="-1" strike="noStrike">
                <a:solidFill>
                  <a:srgbClr val="002060"/>
                </a:solidFill>
                <a:latin typeface="Tahoma"/>
              </a:rPr>
              <a:t> para orientar y precisar los objetivos a alcanzar y organización del proce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2060"/>
                </a:solidFill>
                <a:latin typeface="Tahoma"/>
              </a:rPr>
              <a:t>Capacitación de los funcionarios </a:t>
            </a:r>
            <a:r>
              <a:rPr b="0" lang="es-ES" sz="2400" spc="-1" strike="noStrike">
                <a:solidFill>
                  <a:srgbClr val="002060"/>
                </a:solidFill>
                <a:latin typeface="Tahoma"/>
              </a:rPr>
              <a:t>administrativos que dirigen el Forum en la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2060"/>
                </a:solidFill>
                <a:latin typeface="Tahoma"/>
              </a:rPr>
              <a:t>Visita a los centros para comprobar las medidas</a:t>
            </a:r>
            <a:r>
              <a:rPr b="0" lang="es-ES" sz="2400" spc="-1" strike="noStrike">
                <a:solidFill>
                  <a:srgbClr val="002060"/>
                </a:solidFill>
                <a:latin typeface="Tahoma"/>
              </a:rPr>
              <a:t> adopt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714240" y="1974960"/>
            <a:ext cx="681120" cy="822240"/>
          </a:xfrm>
          <a:custGeom>
            <a:avLst/>
            <a:gdLst>
              <a:gd name="textAreaLeft" fmla="*/ 106200 w 681120"/>
              <a:gd name="textAreaRight" fmla="*/ 596160 w 681120"/>
              <a:gd name="textAreaTop" fmla="*/ 205560 h 822240"/>
              <a:gd name="textAreaBottom" fmla="*/ 616680 h 822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9"/>
          <p:cNvSpPr/>
          <p:nvPr/>
        </p:nvSpPr>
        <p:spPr>
          <a:xfrm>
            <a:off x="717480" y="4697280"/>
            <a:ext cx="681120" cy="822600"/>
          </a:xfrm>
          <a:custGeom>
            <a:avLst/>
            <a:gdLst>
              <a:gd name="textAreaLeft" fmla="*/ 106200 w 681120"/>
              <a:gd name="textAreaRight" fmla="*/ 596160 w 681120"/>
              <a:gd name="textAreaTop" fmla="*/ 205560 h 822600"/>
              <a:gd name="textAreaBottom" fmla="*/ 617040 h 822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0"/>
          <p:cNvSpPr/>
          <p:nvPr/>
        </p:nvSpPr>
        <p:spPr>
          <a:xfrm>
            <a:off x="714240" y="3260880"/>
            <a:ext cx="681120" cy="822240"/>
          </a:xfrm>
          <a:custGeom>
            <a:avLst/>
            <a:gdLst>
              <a:gd name="textAreaLeft" fmla="*/ 106200 w 681120"/>
              <a:gd name="textAreaRight" fmla="*/ 596160 w 681120"/>
              <a:gd name="textAreaTop" fmla="*/ 205560 h 822240"/>
              <a:gd name="textAreaBottom" fmla="*/ 616680 h 822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755640" y="5850000"/>
            <a:ext cx="681120" cy="822240"/>
          </a:xfrm>
          <a:custGeom>
            <a:avLst/>
            <a:gdLst>
              <a:gd name="textAreaLeft" fmla="*/ 106200 w 681120"/>
              <a:gd name="textAreaRight" fmla="*/ 596160 w 681120"/>
              <a:gd name="textAreaTop" fmla="*/ 205560 h 822240"/>
              <a:gd name="textAreaBottom" fmla="*/ 616680 h 822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665280" y="182880"/>
            <a:ext cx="7075440" cy="644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1f5f"/>
                </a:solidFill>
                <a:latin typeface="Tahoma"/>
              </a:rPr>
              <a:t>VI. FORUM D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571680" y="1137240"/>
            <a:ext cx="7797600" cy="954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f1f5f"/>
                </a:solidFill>
                <a:latin typeface="Tahoma"/>
              </a:rPr>
              <a:t>Experiencias útiles realizadas en ocasiones anteriores en apoyo al Forum de Base.</a:t>
            </a:r>
            <a:r>
              <a:rPr b="1" lang="es-ES" sz="1800" spc="-1" strike="noStrike">
                <a:solidFill>
                  <a:srgbClr val="1f1f5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1f1f5f"/>
                </a:solidFill>
                <a:latin typeface="Tahoma"/>
              </a:rPr>
              <a:t>(Cont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187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6"/>
          <p:cNvSpPr/>
          <p:nvPr/>
        </p:nvSpPr>
        <p:spPr>
          <a:xfrm>
            <a:off x="1057320" y="2374920"/>
            <a:ext cx="781200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36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2060"/>
                </a:solidFill>
                <a:latin typeface="Tahoma"/>
              </a:rPr>
              <a:t>Cada organización superior de dirección</a:t>
            </a:r>
            <a:r>
              <a:rPr b="0" lang="es-ES" sz="2400" spc="-1" strike="noStrike">
                <a:solidFill>
                  <a:srgbClr val="002060"/>
                </a:solidFill>
                <a:latin typeface="Tahoma"/>
              </a:rPr>
              <a:t> orienta a sus miembros y organizaciones subordin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2060"/>
                </a:solidFill>
                <a:latin typeface="Tahoma"/>
              </a:rPr>
              <a:t>Acciones con las entidades</a:t>
            </a:r>
            <a:r>
              <a:rPr b="0" lang="es-ES" sz="2400" spc="-1" strike="noStrike">
                <a:solidFill>
                  <a:srgbClr val="002060"/>
                </a:solidFill>
                <a:latin typeface="Tahoma"/>
              </a:rPr>
              <a:t> que aseguran el </a:t>
            </a:r>
            <a:r>
              <a:rPr b="1" lang="es-ES" sz="2400" spc="-1" strike="noStrike">
                <a:solidFill>
                  <a:srgbClr val="002060"/>
                </a:solidFill>
                <a:latin typeface="Tahoma"/>
              </a:rPr>
              <a:t>control de la estadí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2060"/>
                </a:solidFill>
                <a:latin typeface="Tahoma"/>
              </a:rPr>
              <a:t>Divulgar por la prensa, radio y TV</a:t>
            </a:r>
            <a:r>
              <a:rPr b="0" lang="es-ES" sz="2400" spc="-1" strike="noStrike">
                <a:solidFill>
                  <a:srgbClr val="002060"/>
                </a:solidFill>
                <a:latin typeface="Tahoma"/>
              </a:rPr>
              <a:t>  los principales resultados de los Forum Base. (entre mayo-sep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002060"/>
                </a:solidFill>
                <a:latin typeface="Tahoma"/>
              </a:rPr>
              <a:t>Evaluar en Septiembre – Octubre, en el municipio</a:t>
            </a:r>
            <a:r>
              <a:rPr b="0" lang="es-ES" sz="2400" spc="-1" strike="noStrike">
                <a:solidFill>
                  <a:srgbClr val="002060"/>
                </a:solidFill>
                <a:latin typeface="Tahoma"/>
              </a:rPr>
              <a:t>, el comportamiento y resultados  alcanzados en los Forum  Base en apoyo al desarrollo del paí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665280" y="2273400"/>
            <a:ext cx="680760" cy="822240"/>
          </a:xfrm>
          <a:custGeom>
            <a:avLst/>
            <a:gdLst>
              <a:gd name="textAreaLeft" fmla="*/ 106200 w 680760"/>
              <a:gd name="textAreaRight" fmla="*/ 595800 w 680760"/>
              <a:gd name="textAreaTop" fmla="*/ 205560 h 822240"/>
              <a:gd name="textAreaBottom" fmla="*/ 616680 h 822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665280" y="3454560"/>
            <a:ext cx="680760" cy="822240"/>
          </a:xfrm>
          <a:custGeom>
            <a:avLst/>
            <a:gdLst>
              <a:gd name="textAreaLeft" fmla="*/ 106200 w 680760"/>
              <a:gd name="textAreaRight" fmla="*/ 595800 w 680760"/>
              <a:gd name="textAreaTop" fmla="*/ 205560 h 822240"/>
              <a:gd name="textAreaBottom" fmla="*/ 616680 h 822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>
            <a:off x="698400" y="5584680"/>
            <a:ext cx="681120" cy="822600"/>
          </a:xfrm>
          <a:custGeom>
            <a:avLst/>
            <a:gdLst>
              <a:gd name="textAreaLeft" fmla="*/ 106200 w 681120"/>
              <a:gd name="textAreaRight" fmla="*/ 596160 w 681120"/>
              <a:gd name="textAreaTop" fmla="*/ 205560 h 822600"/>
              <a:gd name="textAreaBottom" fmla="*/ 617040 h 822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698400" y="4535640"/>
            <a:ext cx="681120" cy="822240"/>
          </a:xfrm>
          <a:custGeom>
            <a:avLst/>
            <a:gdLst>
              <a:gd name="textAreaLeft" fmla="*/ 106200 w 681120"/>
              <a:gd name="textAreaRight" fmla="*/ 596160 w 681120"/>
              <a:gd name="textAreaTop" fmla="*/ 205560 h 822240"/>
              <a:gd name="textAreaBottom" fmla="*/ 616680 h 822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611280" y="254160"/>
            <a:ext cx="7075440" cy="644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1f5f"/>
                </a:solidFill>
                <a:latin typeface="Tahoma"/>
              </a:rPr>
              <a:t>VI. FORUM D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"/>
          <p:cNvSpPr/>
          <p:nvPr/>
        </p:nvSpPr>
        <p:spPr>
          <a:xfrm>
            <a:off x="642960" y="708840"/>
            <a:ext cx="7437240" cy="954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f5f"/>
                </a:solidFill>
                <a:latin typeface="Tahoma"/>
              </a:rPr>
              <a:t>Fundamentos Básicos para organizar el Forum en el centro o entidad de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197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Rectangle 8"/>
          <p:cNvSpPr/>
          <p:nvPr/>
        </p:nvSpPr>
        <p:spPr>
          <a:xfrm>
            <a:off x="1260360" y="1714680"/>
            <a:ext cx="763272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La Dirección Administrativa preside y dirige el Forum en la Base 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teniendo como misión principal la integración en la actividad científico técnica. Pasa revista a los aportes surgidos cada año y resul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Los Forum de Base a realizar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, su organización y las áreas que abarcan, lo decide la entidad o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La fecha del Forum de Base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, dentro del período establecido, lo decide el centro.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Lo básico es garantizar la participación masiva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del colec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El Programa del Forum de Base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se presenta al Consejo de Dirección del Centro para su aprobación. Lo principal es el rigor y la calidad en los resul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1"/>
          <p:cNvSpPr/>
          <p:nvPr/>
        </p:nvSpPr>
        <p:spPr>
          <a:xfrm>
            <a:off x="571680" y="4154040"/>
            <a:ext cx="680760" cy="918720"/>
          </a:xfrm>
          <a:prstGeom prst="pi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1"/>
          <p:cNvSpPr/>
          <p:nvPr/>
        </p:nvSpPr>
        <p:spPr>
          <a:xfrm>
            <a:off x="571680" y="5439960"/>
            <a:ext cx="680760" cy="918720"/>
          </a:xfrm>
          <a:prstGeom prst="pi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9"/>
          <p:cNvSpPr/>
          <p:nvPr/>
        </p:nvSpPr>
        <p:spPr>
          <a:xfrm>
            <a:off x="571680" y="1841040"/>
            <a:ext cx="680760" cy="918720"/>
          </a:xfrm>
          <a:prstGeom prst="pi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571680" y="3225600"/>
            <a:ext cx="680760" cy="919080"/>
          </a:xfrm>
          <a:prstGeom prst="pi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611280" y="38520"/>
            <a:ext cx="7075440" cy="644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1f5f"/>
                </a:solidFill>
                <a:latin typeface="Tahoma"/>
              </a:rPr>
              <a:t>VI. FORUM D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"/>
          <p:cNvSpPr/>
          <p:nvPr/>
        </p:nvSpPr>
        <p:spPr>
          <a:xfrm>
            <a:off x="752400" y="1191240"/>
            <a:ext cx="7419960" cy="954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f1f5f"/>
                </a:solidFill>
                <a:latin typeface="Tahoma"/>
              </a:rPr>
              <a:t>Fundamentos Básicos para organizar el Forum en el centro o entidad de base. </a:t>
            </a:r>
            <a:r>
              <a:rPr b="1" lang="es-ES" sz="2000" spc="-1" strike="noStrike">
                <a:solidFill>
                  <a:srgbClr val="1f1f5f"/>
                </a:solidFill>
                <a:latin typeface="Tahoma"/>
              </a:rPr>
              <a:t>(Cont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207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6"/>
          <p:cNvSpPr/>
          <p:nvPr/>
        </p:nvSpPr>
        <p:spPr>
          <a:xfrm>
            <a:off x="1241280" y="2446200"/>
            <a:ext cx="734400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Se solicita al Consejo de Direcció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riente la participación de los jefes y funcionarios administrativos en los correspondientes Forum de Base para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Participar en el análisis de las soluciones o ponencias y explicar el criterio de la Administración sobre su real resultado y aporte tecnológico, económico, social, productivo y ambiental para el cen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520560" y="2317320"/>
            <a:ext cx="681120" cy="918720"/>
          </a:xfrm>
          <a:prstGeom prst="pi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0"/>
          <p:cNvSpPr/>
          <p:nvPr/>
        </p:nvSpPr>
        <p:spPr>
          <a:xfrm>
            <a:off x="755640" y="414720"/>
            <a:ext cx="7075440" cy="644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1f5f"/>
                </a:solidFill>
                <a:latin typeface="Tahoma"/>
              </a:rPr>
              <a:t>VI. FORUM D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6"/>
          <p:cNvSpPr/>
          <p:nvPr/>
        </p:nvSpPr>
        <p:spPr>
          <a:xfrm>
            <a:off x="684360" y="1265400"/>
            <a:ext cx="814356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Tahoma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Tahoma"/>
              </a:rPr>
              <a:t>Objetivos Priorizados en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Tahoma"/>
              <a:buAutoNum type="arabicPeriod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Contribuir al cumplimiento de los Lineamientos Económico-Sociales del VI Congreso PCC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 que corresponda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- Los centros particip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- Municip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- Provi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Las tareas esenciales se concentran en continuar estimulando la creatividad en el aporte de  soluciones técnicas de los colectivos de base y fortalecer su participación en la soluciones de los problemas principales que afectan el cumplimiento de los pla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5746680" y="2556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Tema I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0"/>
          <p:cNvSpPr/>
          <p:nvPr/>
        </p:nvSpPr>
        <p:spPr>
          <a:xfrm>
            <a:off x="468360" y="341640"/>
            <a:ext cx="4103640" cy="704160"/>
          </a:xfrm>
          <a:prstGeom prst="roundRect">
            <a:avLst>
              <a:gd name="adj" fmla="val 0"/>
            </a:avLst>
          </a:prstGeom>
          <a:solidFill>
            <a:srgbClr val="6f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OBJETIVOS Y ACTIV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PRINCIPALES DEL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4 Elipse"/>
          <p:cNvGrpSpPr/>
          <p:nvPr/>
        </p:nvGrpSpPr>
        <p:grpSpPr>
          <a:xfrm>
            <a:off x="7778880" y="6284880"/>
            <a:ext cx="1225440" cy="682560"/>
            <a:chOff x="7778880" y="6284880"/>
            <a:chExt cx="1225440" cy="682560"/>
          </a:xfrm>
        </p:grpSpPr>
        <p:pic>
          <p:nvPicPr>
            <p:cNvPr id="60" name="4 Elipse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778880" y="6284880"/>
              <a:ext cx="12254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7980480" y="6389640"/>
              <a:ext cx="8157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Text Box 5"/>
          <p:cNvSpPr/>
          <p:nvPr/>
        </p:nvSpPr>
        <p:spPr>
          <a:xfrm>
            <a:off x="7956720" y="6381720"/>
            <a:ext cx="83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In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2"/>
          <p:cNvSpPr/>
          <p:nvPr/>
        </p:nvSpPr>
        <p:spPr>
          <a:xfrm>
            <a:off x="806400" y="967680"/>
            <a:ext cx="7726320" cy="954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ahoma"/>
              </a:rPr>
              <a:t>Fundamentos Básicos para organizar el Forum en el centro o entidad de base.</a:t>
            </a:r>
            <a:r>
              <a:rPr b="1" lang="es-ES" sz="2400" spc="-1" strike="noStrike">
                <a:solidFill>
                  <a:srgbClr val="1f1f5f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66"/>
                </a:solidFill>
                <a:latin typeface="Tahoma"/>
              </a:rPr>
              <a:t>(Cont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214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Rectangle 6"/>
          <p:cNvSpPr/>
          <p:nvPr/>
        </p:nvSpPr>
        <p:spPr>
          <a:xfrm>
            <a:off x="1260360" y="2271600"/>
            <a:ext cx="734400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No es obligado presentar por escrito la solución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o ponencia en el Forum de Base del ár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Verbal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, señalando tres aspectos concretos: ¿Qué lo motivó?, ¿Cómo lo hizo? y Resultado, aporte y beneficio al cen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Se promueve la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cooperación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de colaboradores 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para ayudar a los autores a presentar su tra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A nivel de todo el centro 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se aplica el mismo método si hay dificultades materiales aunque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debe aspirarse a presentar ponencias escri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539640" y="2246040"/>
            <a:ext cx="681120" cy="918720"/>
          </a:xfrm>
          <a:prstGeom prst="pi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781200" y="182880"/>
            <a:ext cx="7075440" cy="644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1f5f"/>
                </a:solidFill>
                <a:latin typeface="Tahoma"/>
              </a:rPr>
              <a:t>VI. FORUM D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AutoShape 2"/>
          <p:cNvSpPr/>
          <p:nvPr/>
        </p:nvSpPr>
        <p:spPr>
          <a:xfrm>
            <a:off x="774720" y="1137240"/>
            <a:ext cx="7726320" cy="954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ahoma"/>
              </a:rPr>
              <a:t>Fundamentos Básicos para organizar el Forum en el centro o entidad de base.</a:t>
            </a:r>
            <a:r>
              <a:rPr b="1" lang="es-E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0066"/>
                </a:solidFill>
                <a:latin typeface="Tahoma"/>
              </a:rPr>
              <a:t>(Cont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221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Rectangle 6"/>
          <p:cNvSpPr/>
          <p:nvPr/>
        </p:nvSpPr>
        <p:spPr>
          <a:xfrm>
            <a:off x="1442880" y="3092400"/>
            <a:ext cx="734400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El principio a cumplir y que determina la organización de los eventos técnicos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es: “Todo el que aportó una solución técnica útil, necesaria y eficiente, debe presentarla en el Forum de Base y señalar su beneficio al centr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7"/>
          <p:cNvSpPr/>
          <p:nvPr/>
        </p:nvSpPr>
        <p:spPr>
          <a:xfrm>
            <a:off x="722160" y="3018960"/>
            <a:ext cx="681120" cy="918720"/>
          </a:xfrm>
          <a:prstGeom prst="pi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781200" y="327240"/>
            <a:ext cx="7075440" cy="644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1f5f"/>
                </a:solidFill>
                <a:latin typeface="Tahoma"/>
              </a:rPr>
              <a:t>VI. FORUM D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AutoShape 2"/>
          <p:cNvSpPr/>
          <p:nvPr/>
        </p:nvSpPr>
        <p:spPr>
          <a:xfrm>
            <a:off x="806400" y="778680"/>
            <a:ext cx="7510680" cy="954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f1f5f"/>
                </a:solidFill>
                <a:latin typeface="Tahoma"/>
              </a:rPr>
              <a:t>Fundamentos Básicos para organizar el Forum en el centro o entidad de base. </a:t>
            </a:r>
            <a:r>
              <a:rPr b="1" lang="es-ES" sz="2000" spc="-1" strike="noStrike">
                <a:solidFill>
                  <a:srgbClr val="1f1f5f"/>
                </a:solidFill>
                <a:latin typeface="Tahoma"/>
              </a:rPr>
              <a:t>(Cont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228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Rectangle 6"/>
          <p:cNvSpPr/>
          <p:nvPr/>
        </p:nvSpPr>
        <p:spPr>
          <a:xfrm>
            <a:off x="1214280" y="1909800"/>
            <a:ext cx="767880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ahoma"/>
              </a:rPr>
              <a:t>El Resumen final del Forum de Base en el centro, entidad o empresa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 recoge concretament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8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Tahoma"/>
              </a:rPr>
              <a:t>Que ha representado la integración </a:t>
            </a: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del Forum y las organizaciones sociales que en él participan y que aportes técnicos se han hecho desde el año anteri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8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Tahoma"/>
              </a:rPr>
              <a:t>Aplicación de la ciencia, la técnica y la innovación </a:t>
            </a: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y grado de </a:t>
            </a:r>
            <a:r>
              <a:rPr b="1" lang="en-US" sz="2200" spc="-1" strike="noStrike">
                <a:solidFill>
                  <a:srgbClr val="002060"/>
                </a:solidFill>
                <a:latin typeface="Tahoma"/>
              </a:rPr>
              <a:t>participación masiva </a:t>
            </a: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del colectiv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8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Tahoma"/>
              </a:rPr>
              <a:t>Resultados alcanzados </a:t>
            </a: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en los temas priorizados del país y del centro. Señalar los más relevantes: beneficios económicos, eficiencia, productividad, ahorro y medio ambient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8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Tahoma"/>
              </a:rPr>
              <a:t>Personas más destacadas </a:t>
            </a: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por sus aportes técnic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7"/>
          <p:cNvSpPr/>
          <p:nvPr/>
        </p:nvSpPr>
        <p:spPr>
          <a:xfrm>
            <a:off x="500040" y="1784160"/>
            <a:ext cx="681120" cy="919080"/>
          </a:xfrm>
          <a:prstGeom prst="pi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781200" y="38520"/>
            <a:ext cx="7075440" cy="644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1f5f"/>
                </a:solidFill>
                <a:latin typeface="Tahoma"/>
              </a:rPr>
              <a:t>VI. FORUM D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2"/>
          <p:cNvSpPr/>
          <p:nvPr/>
        </p:nvSpPr>
        <p:spPr>
          <a:xfrm>
            <a:off x="611280" y="1208880"/>
            <a:ext cx="8043840" cy="5288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f5f"/>
                </a:solidFill>
                <a:latin typeface="Tahoma"/>
              </a:rPr>
              <a:t>Programa del Forum de Base. Proced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235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Rectangle 6"/>
          <p:cNvSpPr/>
          <p:nvPr/>
        </p:nvSpPr>
        <p:spPr>
          <a:xfrm>
            <a:off x="826920" y="2158920"/>
            <a:ext cx="734400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just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143676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Tahoma"/>
              </a:rPr>
              <a:t>1ro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: Precisar cantidad de soluciones aportadas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en el período y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cifra de autores y coautores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de las mismas. Agrupar por temas prior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 algn="just">
              <a:lnSpc>
                <a:spcPct val="120000"/>
              </a:lnSpc>
              <a:spcBef>
                <a:spcPts val="4201"/>
              </a:spcBef>
              <a:tabLst>
                <a:tab algn="l" pos="0"/>
                <a:tab algn="l" pos="143676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Tahoma"/>
              </a:rPr>
              <a:t>2do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: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Definir los Forum de Base a realizar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y el área que abarca, precisand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93680" indent="-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43676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cantidad de soluciones presentadas según tema  prioriz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93680" indent="-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43676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Autores y coaut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93680" indent="-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436760"/>
                <a:tab algn="l" pos="1566720"/>
                <a:tab algn="l" pos="2089080"/>
                <a:tab algn="l" pos="2611440"/>
                <a:tab algn="l" pos="3133800"/>
                <a:tab algn="l" pos="3656160"/>
                <a:tab algn="l" pos="4178160"/>
                <a:tab algn="l" pos="4700520"/>
                <a:tab algn="l" pos="5222880"/>
                <a:tab algn="l" pos="5745240"/>
                <a:tab algn="l" pos="6267600"/>
                <a:tab algn="l" pos="6789600"/>
                <a:tab algn="l" pos="7311960"/>
                <a:tab algn="l" pos="7834320"/>
                <a:tab algn="l" pos="8356680"/>
                <a:tab algn="l" pos="8879040"/>
                <a:tab algn="l" pos="9401040"/>
                <a:tab algn="l" pos="9923400"/>
                <a:tab algn="l" pos="10445760"/>
                <a:tab algn="l" pos="1096812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Total de trabajadores que laboran en el ár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684360" y="327240"/>
            <a:ext cx="7075440" cy="644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1f5f"/>
                </a:solidFill>
                <a:latin typeface="Tahoma"/>
              </a:rPr>
              <a:t>VI. FORUM D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2"/>
          <p:cNvSpPr/>
          <p:nvPr/>
        </p:nvSpPr>
        <p:spPr>
          <a:xfrm>
            <a:off x="611280" y="818280"/>
            <a:ext cx="8116920" cy="5288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f1f5f"/>
                </a:solidFill>
                <a:latin typeface="Tahoma"/>
              </a:rPr>
              <a:t>Programa del Forum de Base. Procedimiento. </a:t>
            </a:r>
            <a:r>
              <a:rPr b="1" lang="es-ES" sz="1800" spc="-1" strike="noStrike">
                <a:solidFill>
                  <a:srgbClr val="1f1f5f"/>
                </a:solidFill>
                <a:latin typeface="Tahoma"/>
              </a:rPr>
              <a:t>Cont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241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Rectangle 6"/>
          <p:cNvSpPr/>
          <p:nvPr/>
        </p:nvSpPr>
        <p:spPr>
          <a:xfrm>
            <a:off x="684360" y="1625760"/>
            <a:ext cx="813564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just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2060"/>
                </a:solidFill>
                <a:uFillTx/>
                <a:latin typeface="Tahoma"/>
              </a:rPr>
              <a:t>3ro</a:t>
            </a:r>
            <a:r>
              <a:rPr b="1" lang="en-US" sz="2200" spc="-1" strike="noStrike">
                <a:solidFill>
                  <a:srgbClr val="002060"/>
                </a:solidFill>
                <a:latin typeface="Tahoma"/>
              </a:rPr>
              <a:t>: Decidir las “Comisiones Técnicas del Jurado” a constituir,</a:t>
            </a: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 el tema específico que abordarán y las soluciones a evalu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 algn="just">
              <a:lnSpc>
                <a:spcPct val="12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2060"/>
                </a:solidFill>
                <a:uFillTx/>
                <a:latin typeface="Tahoma"/>
              </a:rPr>
              <a:t>4to</a:t>
            </a: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: </a:t>
            </a:r>
            <a:r>
              <a:rPr b="1" lang="en-US" sz="2200" spc="-1" strike="noStrike">
                <a:solidFill>
                  <a:srgbClr val="002060"/>
                </a:solidFill>
                <a:latin typeface="Tahoma"/>
              </a:rPr>
              <a:t>Cada comisión técnica tiene definido:</a:t>
            </a: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93680" indent="-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Cantidad de autores que expondrá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93680" indent="-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Tema concreto que abar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93680" indent="-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Colaboradores que cooperan en la present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93680" indent="-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Tiempo para cada pon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93680" indent="-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Fecha, hora y lugar a sesion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93680" indent="-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Jefes y funcionarios que participarán y señalarán resultados y beneficios recibidos por el cent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93680" indent="-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Guión para evaluar las ponencias o solu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0"/>
          <p:cNvSpPr/>
          <p:nvPr/>
        </p:nvSpPr>
        <p:spPr>
          <a:xfrm>
            <a:off x="684360" y="38520"/>
            <a:ext cx="7075440" cy="644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1f5f"/>
                </a:solidFill>
                <a:latin typeface="Tahoma"/>
              </a:rPr>
              <a:t>VI. FORUM D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649440" y="1088280"/>
            <a:ext cx="8116560" cy="5288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f1f5f"/>
                </a:solidFill>
                <a:latin typeface="Tahoma"/>
              </a:rPr>
              <a:t>Programa del Forum de Base. Procedimiento. </a:t>
            </a:r>
            <a:r>
              <a:rPr b="1" lang="es-ES" sz="1800" spc="-1" strike="noStrike">
                <a:solidFill>
                  <a:srgbClr val="1f1f5f"/>
                </a:solidFill>
                <a:latin typeface="Tahoma"/>
              </a:rPr>
              <a:t>Cont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247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6"/>
          <p:cNvSpPr/>
          <p:nvPr/>
        </p:nvSpPr>
        <p:spPr>
          <a:xfrm>
            <a:off x="722160" y="1895400"/>
            <a:ext cx="8136000" cy="47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just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6"/>
                </a:solidFill>
                <a:uFillTx/>
                <a:latin typeface="Tahoma"/>
              </a:rPr>
              <a:t>5to</a:t>
            </a:r>
            <a:r>
              <a:rPr b="1" lang="en-US" sz="2200" spc="-1" strike="noStrike">
                <a:solidFill>
                  <a:srgbClr val="000066"/>
                </a:solidFill>
                <a:latin typeface="Tahoma"/>
              </a:rPr>
              <a:t>: Seleccionar a los integrantes del jurado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93680" indent="-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Presidencia con mínimo de 3 perso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93680" indent="-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Composición de cada Comisión Técn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93680" indent="-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Se definen las especialidades necesarias del jurado en cada comis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93680" indent="-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Contemplar apoyo de otros centros para integrar el          jur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93680" indent="-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Apoyo de la Comisión Municipal del Forum con talentos del municip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93680" indent="-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Capacitar a todos los integra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93680" indent="-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El equipo organizador del Forum de Base define el guión a tener en cuenta por el jur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0"/>
          <p:cNvSpPr/>
          <p:nvPr/>
        </p:nvSpPr>
        <p:spPr>
          <a:xfrm>
            <a:off x="665280" y="254160"/>
            <a:ext cx="7075440" cy="644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1f5f"/>
                </a:solidFill>
                <a:latin typeface="Tahoma"/>
              </a:rPr>
              <a:t>VI. FORUM D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AutoShape 2"/>
          <p:cNvSpPr/>
          <p:nvPr/>
        </p:nvSpPr>
        <p:spPr>
          <a:xfrm>
            <a:off x="642960" y="1137600"/>
            <a:ext cx="8116920" cy="5288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f1f5f"/>
                </a:solidFill>
                <a:latin typeface="Tahoma"/>
              </a:rPr>
              <a:t>Programa del Forum de Base. Procedimiento. </a:t>
            </a:r>
            <a:r>
              <a:rPr b="1" lang="es-ES" sz="1800" spc="-1" strike="noStrike">
                <a:solidFill>
                  <a:srgbClr val="1f1f5f"/>
                </a:solidFill>
                <a:latin typeface="Tahoma"/>
              </a:rPr>
              <a:t>Cont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253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Rectangle 6"/>
          <p:cNvSpPr/>
          <p:nvPr/>
        </p:nvSpPr>
        <p:spPr>
          <a:xfrm>
            <a:off x="684360" y="2038320"/>
            <a:ext cx="813564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just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Tahoma"/>
              </a:rPr>
              <a:t>6to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: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Medidas organizativas para tener el control estadístico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de los resultados del Forum de Base. Se coordina con la Dirección del centr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 algn="just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ahoma"/>
              </a:rPr>
              <a:t>Se define la persona encargada </a:t>
            </a: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de llevar esta tarea, la cual integra también el equipo de dirección del Forum en el cent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0"/>
          <p:cNvSpPr/>
          <p:nvPr/>
        </p:nvSpPr>
        <p:spPr>
          <a:xfrm>
            <a:off x="665280" y="254160"/>
            <a:ext cx="7075440" cy="644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1f5f"/>
                </a:solidFill>
                <a:latin typeface="Tahoma"/>
              </a:rPr>
              <a:t>VI. FORUM D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AutoShape 2"/>
          <p:cNvSpPr/>
          <p:nvPr/>
        </p:nvSpPr>
        <p:spPr>
          <a:xfrm>
            <a:off x="642960" y="851760"/>
            <a:ext cx="8116920" cy="5288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1f1f5f"/>
                </a:solidFill>
                <a:latin typeface="Tahoma"/>
              </a:rPr>
              <a:t>Programa del Forum de Base. Procedimiento. </a:t>
            </a:r>
            <a:r>
              <a:rPr b="1" lang="es-ES" sz="1800" spc="-1" strike="noStrike">
                <a:solidFill>
                  <a:srgbClr val="1f1f5f"/>
                </a:solidFill>
                <a:latin typeface="Tahoma"/>
              </a:rPr>
              <a:t>Cont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259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Rectangle 6"/>
          <p:cNvSpPr/>
          <p:nvPr/>
        </p:nvSpPr>
        <p:spPr>
          <a:xfrm>
            <a:off x="714240" y="1530360"/>
            <a:ext cx="8136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just"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6"/>
                </a:solidFill>
                <a:uFillTx/>
                <a:latin typeface="Tahoma"/>
              </a:rPr>
              <a:t>7mo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: </a:t>
            </a:r>
            <a:r>
              <a:rPr b="1" lang="en-US" sz="2200" spc="-1" strike="noStrike">
                <a:solidFill>
                  <a:srgbClr val="000066"/>
                </a:solidFill>
                <a:latin typeface="Tahoma"/>
              </a:rPr>
              <a:t>Confeccionar el Programa del Forum de Base a presentar ante el Consejo de Direcció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93680" indent="-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Con los elementos antes expuestos se conforma y organiza el programa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93680" indent="-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Decide si habrá comisión para debatir una temática de interés: Pensamiento de Fidel sobre el Forum; Generalización de soluciones; Ahorro de recursos; piezas de repuesto; medio ambiente; costos; planificación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93680" indent="-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Define cronograma de activ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93680" indent="-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Coordina y consulta al sindicato </a:t>
            </a: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93680" indent="-179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</a:rPr>
              <a:t>Distribución de tareas y acciones. Promueve la participación de las organizaciones soci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708120" y="81360"/>
            <a:ext cx="7075440" cy="644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1f5f"/>
                </a:solidFill>
                <a:latin typeface="Tahoma"/>
              </a:rPr>
              <a:t>VI. FORUM D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2"/>
          <p:cNvSpPr/>
          <p:nvPr/>
        </p:nvSpPr>
        <p:spPr>
          <a:xfrm>
            <a:off x="571680" y="994680"/>
            <a:ext cx="8116560" cy="5288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f5f"/>
                </a:solidFill>
                <a:latin typeface="Tahoma"/>
              </a:rPr>
              <a:t>Resumen Forum de Base. Conteni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265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Rectangle 6"/>
          <p:cNvSpPr/>
          <p:nvPr/>
        </p:nvSpPr>
        <p:spPr>
          <a:xfrm>
            <a:off x="785880" y="1714680"/>
            <a:ext cx="813600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just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Resultados principales: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3315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Mas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3315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Soluciones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aportadas en respaldo a cada tema prior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3315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Beneficios concretos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que recibió el cen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3960"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Trabajos más relevantes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del Cen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3960"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Autores y coautores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que más han aportado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al centro en este Fo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23960"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Colaboradores que  se han destacado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ayudando a los autores y coau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2200" indent="-331560" algn="just">
              <a:lnSpc>
                <a:spcPct val="110000"/>
              </a:lnSpc>
              <a:spcBef>
                <a:spcPts val="10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7"/>
          <p:cNvSpPr/>
          <p:nvPr/>
        </p:nvSpPr>
        <p:spPr>
          <a:xfrm>
            <a:off x="714240" y="1714320"/>
            <a:ext cx="681120" cy="919080"/>
          </a:xfrm>
          <a:prstGeom prst="pi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7"/>
          <p:cNvSpPr/>
          <p:nvPr/>
        </p:nvSpPr>
        <p:spPr>
          <a:xfrm>
            <a:off x="714240" y="3714480"/>
            <a:ext cx="681120" cy="918720"/>
          </a:xfrm>
          <a:prstGeom prst="pi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7"/>
          <p:cNvSpPr/>
          <p:nvPr/>
        </p:nvSpPr>
        <p:spPr>
          <a:xfrm>
            <a:off x="714240" y="4606560"/>
            <a:ext cx="681120" cy="918720"/>
          </a:xfrm>
          <a:prstGeom prst="pi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714240" y="5535360"/>
            <a:ext cx="681120" cy="918720"/>
          </a:xfrm>
          <a:prstGeom prst="pi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0"/>
          <p:cNvSpPr/>
          <p:nvPr/>
        </p:nvSpPr>
        <p:spPr>
          <a:xfrm>
            <a:off x="611280" y="182880"/>
            <a:ext cx="7075440" cy="644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1f5f"/>
                </a:solidFill>
                <a:latin typeface="Tahoma"/>
              </a:rPr>
              <a:t>VI. FORUM D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2"/>
          <p:cNvSpPr/>
          <p:nvPr/>
        </p:nvSpPr>
        <p:spPr>
          <a:xfrm>
            <a:off x="631800" y="1208880"/>
            <a:ext cx="8512200" cy="5288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ahoma"/>
              </a:rPr>
              <a:t>Resumen Forum de Base. Contenido.  </a:t>
            </a:r>
            <a:r>
              <a:rPr b="1" lang="es-ES" sz="1800" spc="-1" strike="noStrike">
                <a:solidFill>
                  <a:srgbClr val="000066"/>
                </a:solidFill>
                <a:latin typeface="Tahoma"/>
              </a:rPr>
              <a:t>(Cont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275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Rectangle 6"/>
          <p:cNvSpPr/>
          <p:nvPr/>
        </p:nvSpPr>
        <p:spPr>
          <a:xfrm>
            <a:off x="1500120" y="1928880"/>
            <a:ext cx="720108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Técnicos y personas calificadas de otras entidades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que se han destacado cooperando con el centro en problemas técnicos import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Trabajos que se proponen al municipio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Problemas fundamentales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que requieren soluciones técnicas a priorizar en la nueva eta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Señalar si se avanza 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en comparación al año anterior. Argument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7"/>
          <p:cNvSpPr/>
          <p:nvPr/>
        </p:nvSpPr>
        <p:spPr>
          <a:xfrm>
            <a:off x="636480" y="1899720"/>
            <a:ext cx="681120" cy="918720"/>
          </a:xfrm>
          <a:prstGeom prst="pi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9"/>
          <p:cNvSpPr/>
          <p:nvPr/>
        </p:nvSpPr>
        <p:spPr>
          <a:xfrm>
            <a:off x="714240" y="3071520"/>
            <a:ext cx="681120" cy="918720"/>
          </a:xfrm>
          <a:prstGeom prst="pi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0"/>
          <p:cNvSpPr/>
          <p:nvPr/>
        </p:nvSpPr>
        <p:spPr>
          <a:xfrm>
            <a:off x="714240" y="4000320"/>
            <a:ext cx="681120" cy="919080"/>
          </a:xfrm>
          <a:prstGeom prst="pi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0"/>
          <p:cNvSpPr/>
          <p:nvPr/>
        </p:nvSpPr>
        <p:spPr>
          <a:xfrm>
            <a:off x="642960" y="5071680"/>
            <a:ext cx="681120" cy="918720"/>
          </a:xfrm>
          <a:prstGeom prst="pi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684360" y="327240"/>
            <a:ext cx="7075440" cy="644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1f5f"/>
                </a:solidFill>
                <a:latin typeface="Tahoma"/>
              </a:rPr>
              <a:t>VI. FORUM D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627120" y="1200240"/>
            <a:ext cx="783252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Tahoma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Tahoma"/>
              </a:rPr>
              <a:t>Objetivos Priorizados en 20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Tahoma"/>
              <a:buAutoNum type="arabicPeriod" startAt="2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Preparación y Organización de los Forum de Base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Trabajar en las soluciones técnicas de los principales problemas de centros identificados por la dirección administrativa que pueden incidir en el cumplimiento de su plan de producción ó servi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Aplicar las acciones que han sido ú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Promover respaldo CAP y C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Contar con un programa respaldado por las Direcciones administra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0"/>
          <p:cNvSpPr/>
          <p:nvPr/>
        </p:nvSpPr>
        <p:spPr>
          <a:xfrm>
            <a:off x="468360" y="341640"/>
            <a:ext cx="4103640" cy="704160"/>
          </a:xfrm>
          <a:prstGeom prst="roundRect">
            <a:avLst>
              <a:gd name="adj" fmla="val 0"/>
            </a:avLst>
          </a:prstGeom>
          <a:solidFill>
            <a:srgbClr val="6f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OBJETIVOS Y ACTIV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PRINCIPALES DEL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5 Rectángulo"/>
          <p:cNvSpPr/>
          <p:nvPr/>
        </p:nvSpPr>
        <p:spPr>
          <a:xfrm>
            <a:off x="5746680" y="2556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Tema I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4 Elipse"/>
          <p:cNvGrpSpPr/>
          <p:nvPr/>
        </p:nvGrpSpPr>
        <p:grpSpPr>
          <a:xfrm>
            <a:off x="7778880" y="6284880"/>
            <a:ext cx="1225440" cy="682560"/>
            <a:chOff x="7778880" y="6284880"/>
            <a:chExt cx="1225440" cy="682560"/>
          </a:xfrm>
        </p:grpSpPr>
        <p:pic>
          <p:nvPicPr>
            <p:cNvPr id="67" name="4 Elipse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778880" y="6284880"/>
              <a:ext cx="12254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7980480" y="6389640"/>
              <a:ext cx="8157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 Box 5"/>
          <p:cNvSpPr/>
          <p:nvPr/>
        </p:nvSpPr>
        <p:spPr>
          <a:xfrm>
            <a:off x="7956720" y="6381720"/>
            <a:ext cx="83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In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284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Rectangle 6"/>
          <p:cNvSpPr/>
          <p:nvPr/>
        </p:nvSpPr>
        <p:spPr>
          <a:xfrm>
            <a:off x="1143000" y="2300400"/>
            <a:ext cx="735804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Tahoma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Definición y 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Tahoma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Funciones Principales Movimiento del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Tahoma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Indicadores del Forum d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Tahoma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Indicadores para Municipio y Provi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Tahoma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Prioridad en el munici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1042920" y="255600"/>
            <a:ext cx="7373880" cy="1319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5f"/>
                </a:solidFill>
                <a:latin typeface="Tahoma"/>
              </a:rPr>
              <a:t>II. FUNCIONES PRINCIPALES y CRITERIO DE MED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289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Rectangle 6"/>
          <p:cNvSpPr/>
          <p:nvPr/>
        </p:nvSpPr>
        <p:spPr>
          <a:xfrm>
            <a:off x="900000" y="1916280"/>
            <a:ext cx="767088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Los indicadores seleccionados se definieron para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evaluar cómo se cumplen las Funciones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Misión del Forum y los resultados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princip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El Criterio de Medida y los Indicadores Seleccionados que se aplican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surgieron de la experiencia acumulada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en cada territorio y la instancia nacional del For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Fueron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objeto de consulta a cada provincia y respaldados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por los Vicepresidentes del CAP que presiden la Dirección del Forum y la delegación del CITMA territo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1042920" y="255600"/>
            <a:ext cx="7373880" cy="1319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5f"/>
                </a:solidFill>
                <a:latin typeface="Tahoma"/>
              </a:rPr>
              <a:t>II. FUNCIONES PRINCIPALES y CRITERIO DE MED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AutoShape 5"/>
          <p:cNvSpPr/>
          <p:nvPr/>
        </p:nvSpPr>
        <p:spPr>
          <a:xfrm>
            <a:off x="781200" y="1839240"/>
            <a:ext cx="5308560" cy="5288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f5f"/>
                </a:solidFill>
                <a:latin typeface="Tahoma"/>
              </a:rPr>
              <a:t>FUNCIONES PRINCIP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1332000" y="2708280"/>
            <a:ext cx="719928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Ser un movimiento de integración en la actividad científico - técnica del país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con un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carácter masivo y rigor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. Integra, cohesiona y promueve la cooperación a nivel de centro productivo,  de servicios y territorios,  para aportar soluciones   técnicas en apoyo a los programas priorizados del país y al desarrollo local y territorial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7"/>
          <p:cNvSpPr/>
          <p:nvPr/>
        </p:nvSpPr>
        <p:spPr>
          <a:xfrm>
            <a:off x="573120" y="2709720"/>
            <a:ext cx="704880" cy="919080"/>
          </a:xfrm>
          <a:prstGeom prst="pi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8a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297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Oval 10"/>
          <p:cNvSpPr/>
          <p:nvPr/>
        </p:nvSpPr>
        <p:spPr>
          <a:xfrm>
            <a:off x="755640" y="184320"/>
            <a:ext cx="7373880" cy="1319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5f"/>
                </a:solidFill>
                <a:latin typeface="Tahoma"/>
              </a:rPr>
              <a:t>II. FUNCIONES PRINCIPALES y CRITERIO DE MED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6"/>
          <p:cNvSpPr/>
          <p:nvPr/>
        </p:nvSpPr>
        <p:spPr>
          <a:xfrm>
            <a:off x="1427040" y="2387520"/>
            <a:ext cx="727236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Promover la cooperación a nivel local 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en primer lugar, y en la provincia, para apoyar y buscar soluciones técnicas en respaldo a los programas más importantes ante problemas que no han sido resueltos por las instituciones. M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oviliza a personas talentosas con experiencia,  creatividad y califi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7"/>
          <p:cNvSpPr/>
          <p:nvPr/>
        </p:nvSpPr>
        <p:spPr>
          <a:xfrm>
            <a:off x="714240" y="2315880"/>
            <a:ext cx="706680" cy="918720"/>
          </a:xfrm>
          <a:prstGeom prst="pi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8a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303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AutoShape 5"/>
          <p:cNvSpPr/>
          <p:nvPr/>
        </p:nvSpPr>
        <p:spPr>
          <a:xfrm>
            <a:off x="781200" y="1839240"/>
            <a:ext cx="5308560" cy="5288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f5f"/>
                </a:solidFill>
                <a:latin typeface="Tahoma"/>
              </a:rPr>
              <a:t>FUNCIONES PRINCIP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10"/>
          <p:cNvSpPr/>
          <p:nvPr/>
        </p:nvSpPr>
        <p:spPr>
          <a:xfrm>
            <a:off x="755640" y="184320"/>
            <a:ext cx="7373880" cy="1319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5f"/>
                </a:solidFill>
                <a:latin typeface="Tahoma"/>
              </a:rPr>
              <a:t>II. FUNCIONES PRINCIPALES y CRITERIO DE MED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1476360" y="2565360"/>
            <a:ext cx="727236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Identificar y seleccionar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 periódicamente los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trabajos más relevantes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aplicados a nivel de centro o instancias de base, que son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útiles y eficientes para el desarrollo del paí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Brindar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Reconocimiento Social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a los autores de soluciones  útiles y elevar la autoestima al talento creador, estimulando y promoviendo su espíritu de cooperación y activa participación en respaldo al desarrollo de nuestra socie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7"/>
          <p:cNvSpPr/>
          <p:nvPr/>
        </p:nvSpPr>
        <p:spPr>
          <a:xfrm>
            <a:off x="763560" y="2422440"/>
            <a:ext cx="704880" cy="919080"/>
          </a:xfrm>
          <a:prstGeom prst="pi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8a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310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AutoShape 7"/>
          <p:cNvSpPr/>
          <p:nvPr/>
        </p:nvSpPr>
        <p:spPr>
          <a:xfrm>
            <a:off x="785880" y="4203360"/>
            <a:ext cx="704880" cy="919080"/>
          </a:xfrm>
          <a:prstGeom prst="pi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8a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781200" y="1839240"/>
            <a:ext cx="5308560" cy="5288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f5f"/>
                </a:solidFill>
                <a:latin typeface="Tahoma"/>
              </a:rPr>
              <a:t>FUNCIONES PRINCIP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755640" y="184320"/>
            <a:ext cx="7373880" cy="1319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5f"/>
                </a:solidFill>
                <a:latin typeface="Tahoma"/>
              </a:rPr>
              <a:t>II. FUNCIONES PRINCIPALES y CRITERIO DE MED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1428840" y="2786040"/>
            <a:ext cx="7056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En cada municipio y provincia del país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seleccionar periódicamente los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trabajos de mayor utilidad,  beneficio social y económico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surgido en dichos territorios, que respaldan y favorecen los programas prioriz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716040" y="2642760"/>
            <a:ext cx="706320" cy="918720"/>
          </a:xfrm>
          <a:prstGeom prst="pi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8a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318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AutoShape 5"/>
          <p:cNvSpPr/>
          <p:nvPr/>
        </p:nvSpPr>
        <p:spPr>
          <a:xfrm>
            <a:off x="781200" y="1839240"/>
            <a:ext cx="5308560" cy="5288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f5f"/>
                </a:solidFill>
                <a:latin typeface="Tahoma"/>
              </a:rPr>
              <a:t>FUNCIONES PRINCIP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755640" y="184320"/>
            <a:ext cx="7373880" cy="1319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5f"/>
                </a:solidFill>
                <a:latin typeface="Tahoma"/>
              </a:rPr>
              <a:t>II. FUNCIONES PRINCIPALES y CRITERIO DE MED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1428840" y="2435400"/>
            <a:ext cx="7056360" cy="40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Promover y colaborar en la rápida  “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Generalización de los trabajos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” con mérito y resultados útiles, que benefician al país y  aquellos territorios y organismos que lo  necesitan, contribuyendo a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extender el nuevo  conocimiento y en  divulgar las experiencias   más novedosas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y eficientes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hacia los colectivos  productivos y de servicios que no la conocen,   ni la aplic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7"/>
          <p:cNvSpPr/>
          <p:nvPr/>
        </p:nvSpPr>
        <p:spPr>
          <a:xfrm>
            <a:off x="716040" y="2436480"/>
            <a:ext cx="704880" cy="919080"/>
          </a:xfrm>
          <a:prstGeom prst="pi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8a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325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AutoShape 5"/>
          <p:cNvSpPr/>
          <p:nvPr/>
        </p:nvSpPr>
        <p:spPr>
          <a:xfrm>
            <a:off x="781200" y="1839240"/>
            <a:ext cx="5308560" cy="5288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f5f"/>
                </a:solidFill>
                <a:latin typeface="Tahoma"/>
              </a:rPr>
              <a:t>FUNCIONES PRINCIP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55640" y="184320"/>
            <a:ext cx="7373880" cy="1319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5f"/>
                </a:solidFill>
                <a:latin typeface="Tahoma"/>
              </a:rPr>
              <a:t>II. FUNCIONES PRINCIPALES y CRITERIO DE MED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1428840" y="2781360"/>
            <a:ext cx="7056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d8a"/>
                </a:solidFill>
                <a:latin typeface="Tahoma"/>
              </a:rPr>
              <a:t>Mide y sirve como un “</a:t>
            </a:r>
            <a:r>
              <a:rPr b="1" lang="en-US" sz="2400" spc="-1" strike="noStrike">
                <a:solidFill>
                  <a:srgbClr val="2d2d8a"/>
                </a:solidFill>
                <a:latin typeface="Tahoma"/>
              </a:rPr>
              <a:t>Criterio de Medida</a:t>
            </a:r>
            <a:r>
              <a:rPr b="0" lang="en-US" sz="2400" spc="-1" strike="noStrike">
                <a:solidFill>
                  <a:srgbClr val="2d2d8a"/>
                </a:solidFill>
                <a:latin typeface="Tahoma"/>
              </a:rPr>
              <a:t>”  para </a:t>
            </a:r>
            <a:r>
              <a:rPr b="1" lang="en-US" sz="2400" spc="-1" strike="noStrike">
                <a:solidFill>
                  <a:srgbClr val="2d2d8a"/>
                </a:solidFill>
                <a:latin typeface="Tahoma"/>
              </a:rPr>
              <a:t>evaluar  el carácter masivo y   participativo de la ciencia y la técnica</a:t>
            </a:r>
            <a:r>
              <a:rPr b="0" lang="en-US" sz="2400" spc="-1" strike="noStrike">
                <a:solidFill>
                  <a:srgbClr val="2d2d8a"/>
                </a:solidFill>
                <a:latin typeface="Tahoma"/>
              </a:rPr>
              <a:t> en las  entidades de base, territorios e instituciones participantes y el nivel de integración existente en dicha activ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7"/>
          <p:cNvSpPr/>
          <p:nvPr/>
        </p:nvSpPr>
        <p:spPr>
          <a:xfrm>
            <a:off x="716040" y="2638080"/>
            <a:ext cx="704880" cy="919080"/>
          </a:xfrm>
          <a:prstGeom prst="pi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8a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332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AutoShape 5"/>
          <p:cNvSpPr/>
          <p:nvPr/>
        </p:nvSpPr>
        <p:spPr>
          <a:xfrm>
            <a:off x="781200" y="1839240"/>
            <a:ext cx="5308560" cy="5288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f5f"/>
                </a:solidFill>
                <a:latin typeface="Tahoma"/>
              </a:rPr>
              <a:t>FUNCIONES PRINCIP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10"/>
          <p:cNvSpPr/>
          <p:nvPr/>
        </p:nvSpPr>
        <p:spPr>
          <a:xfrm>
            <a:off x="755640" y="184320"/>
            <a:ext cx="7373880" cy="1319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5f"/>
                </a:solidFill>
                <a:latin typeface="Tahoma"/>
              </a:rPr>
              <a:t>II. FUNCIONES PRINCIPALES y CRITERIO DE MED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1357200" y="2597040"/>
            <a:ext cx="705672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El Forum Nacional de Ciencia y Técnica  selecciona y reconoce 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aquellos  trabajos más relevantes aplicados en la Base que benefician los Principales Programas y Temas Priorizados del país. Recoge, de manera colegiada, propuestas y consideraciones para continuar mejorando la aplicación de la ciencia y la técnica que favorezcan el desarrollo y avance de nuestra sociedad social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7"/>
          <p:cNvSpPr/>
          <p:nvPr/>
        </p:nvSpPr>
        <p:spPr>
          <a:xfrm>
            <a:off x="644400" y="2454120"/>
            <a:ext cx="704880" cy="919080"/>
          </a:xfrm>
          <a:prstGeom prst="pie">
            <a:avLst/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8a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339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5"/>
          <p:cNvSpPr/>
          <p:nvPr/>
        </p:nvSpPr>
        <p:spPr>
          <a:xfrm>
            <a:off x="781200" y="1839240"/>
            <a:ext cx="5308560" cy="5288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1f5f"/>
                </a:solidFill>
                <a:latin typeface="Tahoma"/>
              </a:rPr>
              <a:t>FUNCIONES PRINCIP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0"/>
          <p:cNvSpPr/>
          <p:nvPr/>
        </p:nvSpPr>
        <p:spPr>
          <a:xfrm>
            <a:off x="755640" y="184320"/>
            <a:ext cx="7373880" cy="1319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5f"/>
                </a:solidFill>
                <a:latin typeface="Tahoma"/>
              </a:rPr>
              <a:t>II. FUNCIONES PRINCIPALES y CRITERIO DE MED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785880" y="2100240"/>
            <a:ext cx="778680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SON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6 INDICADORES: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Masividad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Autores y Coautores de Soluciones: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% de los trabajadores que son Autores y Coautores y aportan soluciones útiles y concre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Participación del colectivo: 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% del total de los trabajadores que participan en las actividades del Forum de Base (incluye colaboradore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Aporte de soluciones útiles y prob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Total de soluciones y por Programa Priorizado que benefic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345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Oval 10"/>
          <p:cNvSpPr/>
          <p:nvPr/>
        </p:nvSpPr>
        <p:spPr>
          <a:xfrm>
            <a:off x="826920" y="1623240"/>
            <a:ext cx="7183440" cy="441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1f5f"/>
                </a:solidFill>
                <a:latin typeface="Arial"/>
              </a:rPr>
              <a:t>CRITERIO DE MEDID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f1f5f"/>
                </a:solidFill>
                <a:latin typeface="Tahoma"/>
              </a:rPr>
              <a:t>Indicadores del FORUM DE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10"/>
          <p:cNvSpPr/>
          <p:nvPr/>
        </p:nvSpPr>
        <p:spPr>
          <a:xfrm>
            <a:off x="755640" y="184320"/>
            <a:ext cx="7373880" cy="1319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5f"/>
                </a:solidFill>
                <a:latin typeface="Tahoma"/>
              </a:rPr>
              <a:t>II. FUNCIONES PRINCIPALES y CRITERIO DE MED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530280" y="1214280"/>
            <a:ext cx="785808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89"/>
              </a:spcBef>
              <a:buClr>
                <a:srgbClr val="002060"/>
              </a:buClr>
              <a:buFont typeface="Tahoma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2060"/>
                </a:solidFill>
                <a:uFillTx/>
                <a:latin typeface="Tahoma"/>
                <a:ea typeface="Tahoma"/>
              </a:rPr>
              <a:t>Objetivos Priorizados en 201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Tahoma"/>
              <a:buAutoNum type="arabicPeriod" startAt="3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ahoma"/>
                <a:ea typeface="Tahoma"/>
              </a:rPr>
              <a:t>Continuar perfeccionando la aplicación del Criterio de Medida</a:t>
            </a:r>
            <a:r>
              <a:rPr b="0" lang="en-US" sz="2200" spc="-1" strike="noStrike">
                <a:solidFill>
                  <a:srgbClr val="002060"/>
                </a:solidFill>
                <a:latin typeface="Tahoma"/>
                <a:ea typeface="Tahoma"/>
              </a:rPr>
              <a:t> para evaluar el rol del movimiento 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  <a:ea typeface="Tahoma"/>
              </a:rPr>
              <a:t>Centros participa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  <a:ea typeface="Tahoma"/>
              </a:rPr>
              <a:t>Municip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  <a:ea typeface="Tahoma"/>
              </a:rPr>
              <a:t>Provin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ahoma"/>
              <a:buAutoNum type="arabicPeriod" startAt="4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ahoma"/>
                <a:ea typeface="Tahoma"/>
              </a:rPr>
              <a:t>Capacitación de los Secretarios Municipales del Forum y los Dirigentes de Base</a:t>
            </a:r>
            <a:r>
              <a:rPr b="0" lang="en-US" sz="2200" spc="-1" strike="noStrike">
                <a:solidFill>
                  <a:srgbClr val="002060"/>
                </a:solidFill>
                <a:latin typeface="Tahoma"/>
                <a:ea typeface="Tahoma"/>
              </a:rPr>
              <a:t>, priorizando los centros mas importantes y aquellos con mayores problemas en el 201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ahoma"/>
              <a:buAutoNum type="arabicPeriod" startAt="4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ahoma"/>
              <a:buAutoNum type="arabicPeriod" startAt="4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Tahoma"/>
                <a:ea typeface="Tahoma"/>
              </a:rPr>
              <a:t>Seguir perfeccionando el Control del Universo de Centros</a:t>
            </a:r>
            <a:r>
              <a:rPr b="0" lang="en-US" sz="2200" spc="-1" strike="noStrike">
                <a:solidFill>
                  <a:srgbClr val="002060"/>
                </a:solidFill>
                <a:latin typeface="Tahoma"/>
                <a:ea typeface="Tahoma"/>
              </a:rPr>
              <a:t> participantes en el  Movimiento  Foru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  <a:ea typeface="Tahoma"/>
              </a:rPr>
              <a:t>Sector Producti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Tahoma"/>
                <a:ea typeface="Tahoma"/>
              </a:rPr>
              <a:t>Sector de Servi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3 Rectángulo"/>
          <p:cNvSpPr/>
          <p:nvPr/>
        </p:nvSpPr>
        <p:spPr>
          <a:xfrm>
            <a:off x="5746680" y="2556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Tema I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0"/>
          <p:cNvSpPr/>
          <p:nvPr/>
        </p:nvSpPr>
        <p:spPr>
          <a:xfrm>
            <a:off x="468360" y="341640"/>
            <a:ext cx="4103640" cy="704160"/>
          </a:xfrm>
          <a:prstGeom prst="roundRect">
            <a:avLst>
              <a:gd name="adj" fmla="val 0"/>
            </a:avLst>
          </a:prstGeom>
          <a:solidFill>
            <a:srgbClr val="6f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OBJETIVOS Y ACTIV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PRINCIPALES DEL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4 Elipse"/>
          <p:cNvGrpSpPr/>
          <p:nvPr/>
        </p:nvGrpSpPr>
        <p:grpSpPr>
          <a:xfrm>
            <a:off x="7778880" y="6284880"/>
            <a:ext cx="1225440" cy="682560"/>
            <a:chOff x="7778880" y="6284880"/>
            <a:chExt cx="1225440" cy="682560"/>
          </a:xfrm>
        </p:grpSpPr>
        <p:pic>
          <p:nvPicPr>
            <p:cNvPr id="74" name="4 Elipse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778880" y="6284880"/>
              <a:ext cx="12254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7980480" y="6389640"/>
              <a:ext cx="8157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5"/>
          <p:cNvSpPr/>
          <p:nvPr/>
        </p:nvSpPr>
        <p:spPr>
          <a:xfrm>
            <a:off x="7956720" y="6381720"/>
            <a:ext cx="83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In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350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Rectangle 6"/>
          <p:cNvSpPr/>
          <p:nvPr/>
        </p:nvSpPr>
        <p:spPr>
          <a:xfrm>
            <a:off x="714240" y="2131920"/>
            <a:ext cx="7929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Selección de los trabajos más relevantes del cen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Generalización de solu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Trabajos previstos e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Propuestos al municipio para su gener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Reconocimiento Social a Autores y Coau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Reconocimiento dado a los Au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Autores de resultados más relev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Integr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Realización Forum de Base program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Opinión del colectivo sobre la calidad y el rig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826920" y="1623240"/>
            <a:ext cx="7183440" cy="441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1f5f"/>
                </a:solidFill>
                <a:latin typeface="Arial"/>
              </a:rPr>
              <a:t>CRITERIO DE MEDID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f1f5f"/>
                </a:solidFill>
                <a:latin typeface="Tahoma"/>
              </a:rPr>
              <a:t>Indicadores del FORUM DE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10"/>
          <p:cNvSpPr/>
          <p:nvPr/>
        </p:nvSpPr>
        <p:spPr>
          <a:xfrm>
            <a:off x="755640" y="184320"/>
            <a:ext cx="7373880" cy="1319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5f"/>
                </a:solidFill>
                <a:latin typeface="Tahoma"/>
              </a:rPr>
              <a:t>II. FUNCIONES PRINCIPALES y CRITERIO DE MED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5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356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7"/>
          <p:cNvSpPr/>
          <p:nvPr/>
        </p:nvSpPr>
        <p:spPr>
          <a:xfrm>
            <a:off x="755640" y="2349360"/>
            <a:ext cx="792180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46120" indent="-36684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El Municipio recibe alta prioridad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, pues en el radican los colectivos de los centros donde se aportan las soluciones y se comprueban sus benefic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36684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En el municipio es donde se evalúan estos indicadores y su desempeño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se mide por lo que alcancen dichos centros, los cuales conforman su universo de aten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6120" indent="-36684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Este principio lo compulsa a atender la base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para tener resultados.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826920" y="1623240"/>
            <a:ext cx="7183440" cy="441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1f5f"/>
                </a:solidFill>
                <a:latin typeface="Arial"/>
              </a:rPr>
              <a:t>CRITERIO DE MEDIDA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1f1f5f"/>
                </a:solidFill>
                <a:latin typeface="Tahoma"/>
              </a:rPr>
              <a:t>Indicadores del MUNICI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5640" y="184320"/>
            <a:ext cx="7373880" cy="1319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5f"/>
                </a:solidFill>
                <a:latin typeface="Tahoma"/>
              </a:rPr>
              <a:t>II. FUNCIONES PRINCIPALES y CRITERIO DE MED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362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Rectangle 7"/>
          <p:cNvSpPr/>
          <p:nvPr/>
        </p:nvSpPr>
        <p:spPr>
          <a:xfrm>
            <a:off x="785880" y="2136600"/>
            <a:ext cx="4102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Se miden 11 ind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898560" y="2708280"/>
          <a:ext cx="7921440" cy="3816360"/>
        </p:xfrm>
        <a:graphic>
          <a:graphicData uri="http://schemas.openxmlformats.org/drawingml/2006/table">
            <a:tbl>
              <a:tblPr/>
              <a:tblGrid>
                <a:gridCol w="3103200"/>
                <a:gridCol w="1633680"/>
                <a:gridCol w="1550880"/>
                <a:gridCol w="163368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CRITERIO DE MED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BI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RE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1. 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Se realizan los Forum de Base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 en los centros correspondient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95%-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94%/-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&lt;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2. </a:t>
                      </a: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Participaci</a:t>
                      </a: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ó</a:t>
                      </a: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n de un 60% o m</a:t>
                      </a: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á</a:t>
                      </a: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s</a:t>
                      </a:r>
                      <a:r>
                        <a:rPr b="0" lang="es-E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 del colectivo en los F</a:t>
                      </a:r>
                      <a:r>
                        <a:rPr b="0" lang="es-ES" sz="18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ó</a:t>
                      </a:r>
                      <a:r>
                        <a:rPr b="0" lang="es-E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rum de Ba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100% - 90 % al centr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89% - 70 % centr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Menos del 70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3. 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Autores y Coautores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 del colectivo con soluciones útiles aportad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80 % de los centros con más del 10% del colecti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80% de los centros con el 8%-10% del colec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80% de los centros con menos del 8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6" name="Oval 10"/>
          <p:cNvSpPr/>
          <p:nvPr/>
        </p:nvSpPr>
        <p:spPr>
          <a:xfrm>
            <a:off x="826920" y="1551960"/>
            <a:ext cx="5784840" cy="441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1f5f"/>
                </a:solidFill>
                <a:latin typeface="Tahoma"/>
              </a:rPr>
              <a:t>Para evaluar el desempeño del MUNICI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755640" y="184320"/>
            <a:ext cx="7373880" cy="1319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5f"/>
                </a:solidFill>
                <a:latin typeface="Tahoma"/>
              </a:rPr>
              <a:t>II. FUNCIONES PRINCIPALES y CRITERIO DE MED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369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71" name=""/>
          <p:cNvGraphicFramePr/>
          <p:nvPr/>
        </p:nvGraphicFramePr>
        <p:xfrm>
          <a:off x="828720" y="2276640"/>
          <a:ext cx="7775640" cy="4176720"/>
        </p:xfrm>
        <a:graphic>
          <a:graphicData uri="http://schemas.openxmlformats.org/drawingml/2006/table">
            <a:tbl>
              <a:tblPr/>
              <a:tblGrid>
                <a:gridCol w="3657600"/>
                <a:gridCol w="1444680"/>
                <a:gridCol w="1446120"/>
                <a:gridCol w="122724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CRITERIO DE MED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BI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RE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4. 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Las soluciones se corresponden en un alto % con los programas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 priorizados por el país y el territo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No menos del 80% de solucion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Entre el 80%-70% lo respald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menos del 70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6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5. </a:t>
                      </a: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La Generalización de trabajos premiados</a:t>
                      </a:r>
                      <a:r>
                        <a:rPr b="0" lang="es-E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en Fórum</a:t>
                      </a:r>
                      <a:r>
                        <a:rPr b="0" lang="es-E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 Nacionales y Territoriales se respaldan en el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Superior al año anteri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Igual al año a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Menos que el año a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6. 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Se desarrollan Encuentros de Generalización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  en temas priorizado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Se realizan  encuentros previstos &gt;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Se cumplen encuentros al  70%-80%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Se realiza menos del 70 %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2" name="Oval 10"/>
          <p:cNvSpPr/>
          <p:nvPr/>
        </p:nvSpPr>
        <p:spPr>
          <a:xfrm>
            <a:off x="826920" y="1551960"/>
            <a:ext cx="5784840" cy="441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1f5f"/>
                </a:solidFill>
                <a:latin typeface="Tahoma"/>
              </a:rPr>
              <a:t>Para evaluar el desempeño del MUNICI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0"/>
          <p:cNvSpPr/>
          <p:nvPr/>
        </p:nvSpPr>
        <p:spPr>
          <a:xfrm>
            <a:off x="755640" y="184320"/>
            <a:ext cx="7373880" cy="1319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5f"/>
                </a:solidFill>
                <a:latin typeface="Tahoma"/>
              </a:rPr>
              <a:t>II. FUNCIONES PRINCIPALES y CRITERIO DE MED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375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77" name=""/>
          <p:cNvGraphicFramePr/>
          <p:nvPr/>
        </p:nvGraphicFramePr>
        <p:xfrm>
          <a:off x="785880" y="2116080"/>
          <a:ext cx="8178840" cy="4481280"/>
        </p:xfrm>
        <a:graphic>
          <a:graphicData uri="http://schemas.openxmlformats.org/drawingml/2006/table">
            <a:tbl>
              <a:tblPr/>
              <a:tblGrid>
                <a:gridCol w="2873160"/>
                <a:gridCol w="1766880"/>
                <a:gridCol w="1549440"/>
                <a:gridCol w="1989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CRITERIO DE MED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BI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RE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7. </a:t>
                      </a: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Todos los autores de soluciones presentan sus trabajos</a:t>
                      </a:r>
                      <a:r>
                        <a:rPr b="0" lang="es-E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 en su Fórum de 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El 80% ó más de los centros cumplen este princip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Entre el 79%-70% de los centros y un municipio no lo cump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Menos del 70% de los centros lo cumplen y más de un municipio no lo cumpl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8. 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Los centros seleccionan los trabajos más relevantes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 y lo presentan al municipi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El 60% de los centros o más cump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El 60% y 50% de los centros lo cump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Menos del 50% lo cumplen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9. 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El municipio selecciona los trabajos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 mas importantes por programa priorizad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&gt;85% de los municipios cump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70%-85% de municipios cu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Menos del 70% cu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8" name="Oval 10"/>
          <p:cNvSpPr/>
          <p:nvPr/>
        </p:nvSpPr>
        <p:spPr>
          <a:xfrm>
            <a:off x="826920" y="1551960"/>
            <a:ext cx="5784840" cy="441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1f5f"/>
                </a:solidFill>
                <a:latin typeface="Tahoma"/>
              </a:rPr>
              <a:t>Para evaluar el desempeño del MUNICI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10"/>
          <p:cNvSpPr/>
          <p:nvPr/>
        </p:nvSpPr>
        <p:spPr>
          <a:xfrm>
            <a:off x="755640" y="184320"/>
            <a:ext cx="7373880" cy="1319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5f"/>
                </a:solidFill>
                <a:latin typeface="Tahoma"/>
              </a:rPr>
              <a:t>II. FUNCIONES PRINCIPALES y CRITERIO DE MED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381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83" name=""/>
          <p:cNvGraphicFramePr/>
          <p:nvPr/>
        </p:nvGraphicFramePr>
        <p:xfrm>
          <a:off x="747720" y="2421000"/>
          <a:ext cx="8001000" cy="3298680"/>
        </p:xfrm>
        <a:graphic>
          <a:graphicData uri="http://schemas.openxmlformats.org/drawingml/2006/table">
            <a:tbl>
              <a:tblPr/>
              <a:tblGrid>
                <a:gridCol w="3065760"/>
                <a:gridCol w="1719000"/>
                <a:gridCol w="1795680"/>
                <a:gridCol w="1420560"/>
              </a:tblGrid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CRITERIO DE MED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BI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RE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M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10. 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Se avanza con CIGET en el territorio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 en el control de los trabajos y soluciones aport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&gt;85% de los  municipios  avanz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70%-85% de municip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Menos del 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11. </a:t>
                      </a: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Definidas las actividades principales del Forum</a:t>
                      </a: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 y respaldadas en el Plan Oficial del territori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100% provincia y municip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Un municipio sin respaldo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2060"/>
                          </a:solidFill>
                          <a:latin typeface="Tahoma"/>
                          <a:ea typeface="Times New Roman"/>
                        </a:rPr>
                        <a:t>Más de 1 municipio sin respaldo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84" name="Oval 10"/>
          <p:cNvSpPr/>
          <p:nvPr/>
        </p:nvSpPr>
        <p:spPr>
          <a:xfrm>
            <a:off x="826920" y="1551960"/>
            <a:ext cx="5784840" cy="441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1f5f"/>
                </a:solidFill>
                <a:latin typeface="Tahoma"/>
              </a:rPr>
              <a:t>Para evaluar el desempeño del MUNICI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755640" y="184320"/>
            <a:ext cx="7373880" cy="1319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5f"/>
                </a:solidFill>
                <a:latin typeface="Tahoma"/>
              </a:rPr>
              <a:t>II. FUNCIONES PRINCIPALES y CRITERIO DE MED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Text Box 5"/>
          <p:cNvGrpSpPr/>
          <p:nvPr/>
        </p:nvGrpSpPr>
        <p:grpSpPr>
          <a:xfrm>
            <a:off x="-30240" y="49320"/>
            <a:ext cx="480960" cy="6905520"/>
            <a:chOff x="-30240" y="49320"/>
            <a:chExt cx="480960" cy="6905520"/>
          </a:xfrm>
        </p:grpSpPr>
        <p:pic>
          <p:nvPicPr>
            <p:cNvPr id="387" name="Text Box 5" descr=""/>
            <p:cNvPicPr/>
            <p:nvPr/>
          </p:nvPicPr>
          <p:blipFill>
            <a:blip r:embed="rId1"/>
            <a:stretch/>
          </p:blipFill>
          <p:spPr>
            <a:xfrm>
              <a:off x="-30240" y="49320"/>
              <a:ext cx="480960" cy="69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 rot="16200000">
              <a:off x="-3211920" y="3288240"/>
              <a:ext cx="685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imes New Roman"/>
                </a:rPr>
                <a:t>DIRECCIÓN DE ATENCIÓN AL FORUM CIENCIA Y TÉCNIC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Rectangle 29"/>
          <p:cNvSpPr/>
          <p:nvPr/>
        </p:nvSpPr>
        <p:spPr>
          <a:xfrm>
            <a:off x="714240" y="2149560"/>
            <a:ext cx="792180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La evaluación del Municipio depende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del comportamiento del criterio de medida en los centros que conforman su universo de aten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La evaluación de la provincia depende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del comportamiento del criterio de medida en los municipios (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son los mismos indicadores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) y los centros que participan en el Forum del terri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206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En esencia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</a:rPr>
              <a:t>el trabajo y los resultados en la Base deciden en la evaluación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</a:rPr>
              <a:t> del municipio y provi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826920" y="1551960"/>
            <a:ext cx="7831440" cy="441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1f5f"/>
                </a:solidFill>
                <a:latin typeface="Tahoma"/>
              </a:rPr>
              <a:t>Para evaluar el desempeño del MUNICIPIO y PROVI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755640" y="184320"/>
            <a:ext cx="7373880" cy="1319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f5f"/>
                </a:solidFill>
                <a:latin typeface="Tahoma"/>
              </a:rPr>
              <a:t>II. FUNCIONES PRINCIPALES y CRITERIO DE MED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642960" y="1228680"/>
            <a:ext cx="785808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Tahoma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Tahoma"/>
                <a:ea typeface="Tahoma"/>
              </a:rPr>
              <a:t>Objetivos Priorizados en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ahoma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ahoma"/>
              <a:buAutoNum type="arabicPeriod" startAt="6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Avanzar en el sistema de identificar y seleccionar los trabajos mas relevantes aportados en el período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 que son reconocidos y avalados por la administración de cada centro en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- Forum d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- Municip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- Provi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Al concluir el  año 2013, entregar a cada organismo del territorio los seleccionados por la provincia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 que benefician los programas y tareas prioriz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0"/>
          <p:cNvSpPr/>
          <p:nvPr/>
        </p:nvSpPr>
        <p:spPr>
          <a:xfrm>
            <a:off x="468360" y="341640"/>
            <a:ext cx="4103640" cy="704160"/>
          </a:xfrm>
          <a:prstGeom prst="roundRect">
            <a:avLst>
              <a:gd name="adj" fmla="val 0"/>
            </a:avLst>
          </a:prstGeom>
          <a:solidFill>
            <a:srgbClr val="6f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OBJETIVOS Y ACTIV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PRINCIPALES DEL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5 Rectángulo"/>
          <p:cNvSpPr/>
          <p:nvPr/>
        </p:nvSpPr>
        <p:spPr>
          <a:xfrm>
            <a:off x="5746680" y="2556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Tema I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4 Elipse"/>
          <p:cNvGrpSpPr/>
          <p:nvPr/>
        </p:nvGrpSpPr>
        <p:grpSpPr>
          <a:xfrm>
            <a:off x="7778880" y="6284880"/>
            <a:ext cx="1225440" cy="682560"/>
            <a:chOff x="7778880" y="6284880"/>
            <a:chExt cx="1225440" cy="682560"/>
          </a:xfrm>
        </p:grpSpPr>
        <p:pic>
          <p:nvPicPr>
            <p:cNvPr id="81" name="4 Elipse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778880" y="6284880"/>
              <a:ext cx="12254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7980480" y="6389640"/>
              <a:ext cx="8157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Text Box 5"/>
          <p:cNvSpPr/>
          <p:nvPr/>
        </p:nvSpPr>
        <p:spPr>
          <a:xfrm>
            <a:off x="7956720" y="6381720"/>
            <a:ext cx="83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In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642960" y="1228680"/>
            <a:ext cx="785808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0360" indent="-360360" algn="just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Tahoma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Tahoma"/>
                <a:ea typeface="Tahoma"/>
              </a:rPr>
              <a:t>Objetivos Priorizados en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buClr>
                <a:srgbClr val="002060"/>
              </a:buClr>
              <a:buFont typeface="Tahoma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buClr>
                <a:srgbClr val="002060"/>
              </a:buClr>
              <a:buFont typeface="Tahoma"/>
              <a:buAutoNum type="arabicPeriod" startAt="7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Participar y colaborar junto al CITMA Territorial, la Dirección de Planificación, Finanzas y el Grupo de Perfeccionamiento Empresarial en la Generalización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 de Soluciones y su respaldo en el Plan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Tahoma"/>
              <a:buAutoNum type="arabicPeriod" startAt="7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Continuar promoviendo el Reconocimiento Social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 a los autores y coaut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Tahoma"/>
              <a:buAutoNum type="arabicPeriod" startAt="7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Reconocimiento a Centros que más se destaquen por sus resultados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 y el Criterio de Med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0"/>
          <p:cNvSpPr/>
          <p:nvPr/>
        </p:nvSpPr>
        <p:spPr>
          <a:xfrm>
            <a:off x="468360" y="341640"/>
            <a:ext cx="4103640" cy="704160"/>
          </a:xfrm>
          <a:prstGeom prst="roundRect">
            <a:avLst>
              <a:gd name="adj" fmla="val 0"/>
            </a:avLst>
          </a:prstGeom>
          <a:solidFill>
            <a:srgbClr val="6f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OBJETIVOS Y ACTIV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PRINCIPALES DEL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 Rectángulo"/>
          <p:cNvSpPr/>
          <p:nvPr/>
        </p:nvSpPr>
        <p:spPr>
          <a:xfrm>
            <a:off x="5746680" y="2556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Tema I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4 Elipse"/>
          <p:cNvGrpSpPr/>
          <p:nvPr/>
        </p:nvGrpSpPr>
        <p:grpSpPr>
          <a:xfrm>
            <a:off x="7778880" y="6284880"/>
            <a:ext cx="1225440" cy="682560"/>
            <a:chOff x="7778880" y="6284880"/>
            <a:chExt cx="1225440" cy="682560"/>
          </a:xfrm>
        </p:grpSpPr>
        <p:pic>
          <p:nvPicPr>
            <p:cNvPr id="88" name="4 Elipse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778880" y="6284880"/>
              <a:ext cx="12254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7980480" y="6389640"/>
              <a:ext cx="8157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5"/>
          <p:cNvSpPr/>
          <p:nvPr/>
        </p:nvSpPr>
        <p:spPr>
          <a:xfrm>
            <a:off x="7956720" y="6381720"/>
            <a:ext cx="839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3" action="ppaction://hlinksldjump"/>
              </a:rPr>
              <a:t>In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642960" y="1197000"/>
            <a:ext cx="78580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39640" indent="-539640" algn="just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Tahoma"/>
              <a:buChar char="•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Tahoma"/>
                <a:ea typeface="Tahoma"/>
              </a:rPr>
              <a:t>Objetivos Priorizados en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 algn="just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Tahoma"/>
              <a:buAutoNum type="arabicPeriod" startAt="10"/>
              <a:tabLst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Fortalecer el Sistema de Trabajo en la instancia Provincial y el Funcionamiento del Municipio</a:t>
            </a: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6480" indent="-457200"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Estabilidad de los Secre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6480" indent="-457200"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Atención a los Municip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6480" indent="-457200"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Capacitar a los dirigentes municipales y d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6480" indent="-457200"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Divulgar los Documentos Básicos y las experiencias más út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6480" indent="-457200"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Sistema de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6480" indent="-457200"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Realización del Balance Anual en Municipios y el Territo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6480" indent="-457200" algn="just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114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Tahoma"/>
                <a:ea typeface="Tahoma"/>
              </a:rPr>
              <a:t>Acciones Conjuntas con el CITMA Territo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0"/>
          <p:cNvSpPr/>
          <p:nvPr/>
        </p:nvSpPr>
        <p:spPr>
          <a:xfrm>
            <a:off x="468360" y="341640"/>
            <a:ext cx="4103640" cy="704160"/>
          </a:xfrm>
          <a:prstGeom prst="roundRect">
            <a:avLst>
              <a:gd name="adj" fmla="val 0"/>
            </a:avLst>
          </a:prstGeom>
          <a:solidFill>
            <a:srgbClr val="6f9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OBJETIVOS Y ACTIV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PRINCIPALES DEL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 Rectángulo"/>
          <p:cNvSpPr/>
          <p:nvPr/>
        </p:nvSpPr>
        <p:spPr>
          <a:xfrm>
            <a:off x="5746680" y="2556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Tema I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4 Elipse"/>
          <p:cNvGrpSpPr/>
          <p:nvPr/>
        </p:nvGrpSpPr>
        <p:grpSpPr>
          <a:xfrm>
            <a:off x="7778880" y="6284880"/>
            <a:ext cx="1225440" cy="682560"/>
            <a:chOff x="7778880" y="6284880"/>
            <a:chExt cx="1225440" cy="682560"/>
          </a:xfrm>
        </p:grpSpPr>
        <p:pic>
          <p:nvPicPr>
            <p:cNvPr id="95" name="4 Elipse" descr=""/>
            <p:cNvPicPr/>
            <p:nvPr/>
          </p:nvPicPr>
          <p:blipFill>
            <a:blip r:embed="rId1"/>
            <a:stretch/>
          </p:blipFill>
          <p:spPr>
            <a:xfrm>
              <a:off x="7778880" y="6284880"/>
              <a:ext cx="12254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7980480" y="6389640"/>
              <a:ext cx="8157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 Box 5"/>
          <p:cNvSpPr/>
          <p:nvPr/>
        </p:nvSpPr>
        <p:spPr>
          <a:xfrm>
            <a:off x="7956720" y="6381720"/>
            <a:ext cx="8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In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66978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i="1" lang="en-US" sz="3300" spc="-1" strike="noStrike">
                <a:solidFill>
                  <a:srgbClr val="6f9500"/>
                </a:solidFill>
                <a:latin typeface="Arial"/>
              </a:rPr>
              <a:t>Plan de Actividades Principal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54532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ctividades Principales 201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0"/>
          <p:cNvSpPr/>
          <p:nvPr/>
        </p:nvSpPr>
        <p:spPr>
          <a:xfrm>
            <a:off x="879480" y="178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1"/>
          <p:cNvSpPr/>
          <p:nvPr/>
        </p:nvSpPr>
        <p:spPr>
          <a:xfrm>
            <a:off x="476280" y="1487520"/>
            <a:ext cx="82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 Reunión de Secretarios Provinciales del   For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    6 y 7 Febr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  11 y 12 de S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rigente: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tor. Forum  C y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ticipante: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c. Prov.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 Curso de Capacitacion (Seminario Nacional) sobre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los  aspectos organizativos y metodologicos  relacionados con las actividades previstas para el 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    7 y 8 Febr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rigente: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tor. Forum  C y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ticipante: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c. Prov. 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7 Elipse"/>
          <p:cNvGrpSpPr/>
          <p:nvPr/>
        </p:nvGrpSpPr>
        <p:grpSpPr>
          <a:xfrm>
            <a:off x="7778880" y="6284880"/>
            <a:ext cx="1225440" cy="682560"/>
            <a:chOff x="7778880" y="6284880"/>
            <a:chExt cx="1225440" cy="682560"/>
          </a:xfrm>
        </p:grpSpPr>
        <p:pic>
          <p:nvPicPr>
            <p:cNvPr id="103" name="7 Elipse" descr=""/>
            <p:cNvPicPr/>
            <p:nvPr/>
          </p:nvPicPr>
          <p:blipFill>
            <a:blip r:embed="rId1"/>
            <a:stretch/>
          </p:blipFill>
          <p:spPr>
            <a:xfrm>
              <a:off x="7778880" y="6284880"/>
              <a:ext cx="12254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980480" y="6389640"/>
              <a:ext cx="8157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 Box 123"/>
          <p:cNvSpPr/>
          <p:nvPr/>
        </p:nvSpPr>
        <p:spPr>
          <a:xfrm>
            <a:off x="7956720" y="6381720"/>
            <a:ext cx="8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In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4968720" y="9360"/>
            <a:ext cx="2988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187164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II. Proyección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68720" y="9000"/>
            <a:ext cx="298800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0" algn="ctr">
              <a:buNone/>
              <a:tabLst>
                <a:tab algn="l" pos="0"/>
                <a:tab algn="l" pos="187164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I. Proyección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756144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f9500"/>
                </a:solidFill>
                <a:latin typeface="Arial"/>
              </a:rPr>
              <a:t>Actividades Principales 201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879480" y="178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539640" y="1233360"/>
            <a:ext cx="79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es-ES" sz="2200" spc="-1" strike="noStrike">
                <a:solidFill>
                  <a:srgbClr val="000000"/>
                </a:solidFill>
                <a:latin typeface="Tahoma"/>
              </a:rPr>
              <a:t>Visitas  de trabajo para valorar el cumplimiento de los objetivos y actividades aprobadas en el año y relacionados con las actividades previstas para el añ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7 Elipse"/>
          <p:cNvGrpSpPr/>
          <p:nvPr/>
        </p:nvGrpSpPr>
        <p:grpSpPr>
          <a:xfrm>
            <a:off x="7778880" y="6284880"/>
            <a:ext cx="1225440" cy="682560"/>
            <a:chOff x="7778880" y="6284880"/>
            <a:chExt cx="1225440" cy="682560"/>
          </a:xfrm>
        </p:grpSpPr>
        <p:pic>
          <p:nvPicPr>
            <p:cNvPr id="112" name="7 Elipse" descr=""/>
            <p:cNvPicPr/>
            <p:nvPr/>
          </p:nvPicPr>
          <p:blipFill>
            <a:blip r:embed="rId1"/>
            <a:stretch/>
          </p:blipFill>
          <p:spPr>
            <a:xfrm>
              <a:off x="7778880" y="6284880"/>
              <a:ext cx="12254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980480" y="6389640"/>
              <a:ext cx="8157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8"/>
          <p:cNvSpPr/>
          <p:nvPr/>
        </p:nvSpPr>
        <p:spPr>
          <a:xfrm>
            <a:off x="7956720" y="6381720"/>
            <a:ext cx="8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In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79480" y="2421000"/>
          <a:ext cx="7416720" cy="4225680"/>
        </p:xfrm>
        <a:graphic>
          <a:graphicData uri="http://schemas.openxmlformats.org/drawingml/2006/table">
            <a:tbl>
              <a:tblPr/>
              <a:tblGrid>
                <a:gridCol w="4210200"/>
                <a:gridCol w="3206520"/>
              </a:tblGrid>
              <a:tr h="545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nicip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í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6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 Ciego de Avi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y 6 Marz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46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  S. Spirit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 y 8 Marz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46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 Isla Juvent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Marz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46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 Camagu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 y 27 Marz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45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 Las Tu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 y 29 Marz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46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 Villa Cla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y 10 Abr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46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Cienfue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y 12 Abr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460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 Pinar del Rí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y 19 Abr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5T16:55:40Z</dcterms:created>
  <dc:creator>maynegra</dc:creator>
  <dc:description/>
  <dc:language>en-US</dc:language>
  <cp:lastModifiedBy>maynegra</cp:lastModifiedBy>
  <dcterms:modified xsi:type="dcterms:W3CDTF">2013-03-15T18:05:25Z</dcterms:modified>
  <cp:revision>2</cp:revision>
  <dc:subject/>
  <dc:title>Diapositiva 1</dc:title>
</cp:coreProperties>
</file>